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1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28.png" ContentType="image/png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38.jpeg" ContentType="image/jpeg"/>
  <Override PartName="/ppt/media/image7.jpeg" ContentType="image/jpeg"/>
  <Override PartName="/ppt/media/image16.png" ContentType="image/png"/>
  <Override PartName="/ppt/media/image11.jpeg" ContentType="image/jpeg"/>
  <Override PartName="/ppt/media/image87.jpeg" ContentType="image/jpeg"/>
  <Override PartName="/ppt/media/image9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7.png" ContentType="image/pn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99.jpeg" ContentType="image/jpeg"/>
  <Override PartName="/ppt/media/image71.jpeg" ContentType="image/jpeg"/>
  <Override PartName="/ppt/media/image96.jpeg" ContentType="image/jpeg"/>
  <Override PartName="/ppt/media/image93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6.jpeg" ContentType="image/jpeg"/>
  <Override PartName="/ppt/media/image88.png" ContentType="image/png"/>
  <Override PartName="/ppt/media/image49.jpeg" ContentType="image/jpeg"/>
  <Override PartName="/ppt/media/image73.jpeg" ContentType="image/jpeg"/>
  <Override PartName="/ppt/media/image102.jpeg" ContentType="image/jpeg"/>
  <Override PartName="/ppt/media/image82.jpeg" ContentType="image/jpeg"/>
  <Override PartName="/ppt/media/image23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92.jpeg" ContentType="image/jpeg"/>
  <Override PartName="/ppt/media/image15.png" ContentType="image/png"/>
  <Override PartName="/ppt/media/image17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.png" ContentType="image/png"/>
  <Override PartName="/ppt/media/image72.jpeg" ContentType="image/jpeg"/>
  <Override PartName="/ppt/media/image26.jpeg" ContentType="image/jpeg"/>
  <Override PartName="/ppt/media/image85.jpeg" ContentType="image/jpeg"/>
  <Override PartName="/ppt/presProps.xml" ContentType="application/vnd.openxmlformats-officedocument.presentationml.presPro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53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41.xml.rels" ContentType="application/vnd.openxmlformats-package.relationships+xml"/>
  <Override PartName="/ppt/slides/_rels/slide169.xml.rels" ContentType="application/vnd.openxmlformats-package.relationships+xml"/>
  <Override PartName="/ppt/slides/_rels/slide120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55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5D4A4-9DC8-4B04-9650-0B6FAAD13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BF2C2-7887-4D78-931D-392DBE0B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4EEE8-BD3B-4FDF-A33C-354620290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EA6AC-83BE-412D-9C99-D1E3E3D6A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9EC7-757F-4329-9A24-CC520238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2348-455D-4C08-9BB6-CBA36BB8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4D80-5416-4208-AD8F-51C40293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2458-3F0F-4FDD-9208-F190D1ED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2D3B-92E7-477E-A94A-6C86B9D6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AFE9-030E-471D-8A6B-0403B389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91FD-D14E-4021-A046-54F8DA29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C5EF8-5A79-4381-974B-03580393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835B-F5F0-46AE-A3C7-1B4BFDB2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3A4C-0233-41FA-83C6-4CF4E53E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BFAC-1781-482D-9B70-3FE7EE92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EA24-467D-4111-BF36-F699D1DB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CA50-111E-4B7F-94B9-628B4C491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DAC6D-3ADF-47F3-A185-EF845130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838CE-E97C-458B-A2AC-F73912DD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D336C-1509-4496-9276-93A436C1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174AD-B24C-4F73-B6FF-BC1800B7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C87B4-1C67-40D3-A161-007517D6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3154A-9D17-4F44-A204-80CF75B3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924A7-A511-4E57-B769-91FE4CE9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0600" y="6120"/>
            <a:ext cx="9195120" cy="6834240"/>
            <a:chOff x="-30600" y="6120"/>
            <a:chExt cx="9195120" cy="6834240"/>
          </a:xfrm>
        </p:grpSpPr>
        <p:grpSp>
          <p:nvGrpSpPr>
            <p:cNvPr id="1" name="Group 3"/>
            <p:cNvGrpSpPr/>
            <p:nvPr/>
          </p:nvGrpSpPr>
          <p:grpSpPr>
            <a:xfrm>
              <a:off x="90000" y="6120"/>
              <a:ext cx="8894880" cy="368640"/>
              <a:chOff x="90000" y="6120"/>
              <a:chExt cx="8894880" cy="368640"/>
            </a:xfrm>
          </p:grpSpPr>
          <p:sp>
            <p:nvSpPr>
              <p:cNvPr id="2" name="AutoShape 4"/>
              <p:cNvSpPr/>
              <p:nvPr/>
            </p:nvSpPr>
            <p:spPr>
              <a:xfrm flipH="1">
                <a:off x="896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AutoShape 5"/>
              <p:cNvSpPr/>
              <p:nvPr/>
            </p:nvSpPr>
            <p:spPr>
              <a:xfrm rot="10800000">
                <a:off x="302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AutoShape 6"/>
              <p:cNvSpPr/>
              <p:nvPr/>
            </p:nvSpPr>
            <p:spPr>
              <a:xfrm flipH="1">
                <a:off x="5184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AutoShape 7"/>
              <p:cNvSpPr/>
              <p:nvPr/>
            </p:nvSpPr>
            <p:spPr>
              <a:xfrm rot="10800000">
                <a:off x="729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9414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AutoShape 9"/>
              <p:cNvSpPr/>
              <p:nvPr/>
            </p:nvSpPr>
            <p:spPr>
              <a:xfrm rot="10800000">
                <a:off x="1152360" y="576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AutoShape 10"/>
              <p:cNvSpPr/>
              <p:nvPr/>
            </p:nvSpPr>
            <p:spPr>
              <a:xfrm flipH="1">
                <a:off x="136440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AutoShape 11"/>
              <p:cNvSpPr/>
              <p:nvPr/>
            </p:nvSpPr>
            <p:spPr>
              <a:xfrm rot="10800000">
                <a:off x="15696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AutoShape 12"/>
              <p:cNvSpPr/>
              <p:nvPr/>
            </p:nvSpPr>
            <p:spPr>
              <a:xfrm flipH="1">
                <a:off x="17852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AutoShape 13"/>
              <p:cNvSpPr/>
              <p:nvPr/>
            </p:nvSpPr>
            <p:spPr>
              <a:xfrm rot="10800000">
                <a:off x="1994040" y="576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AutoShape 14"/>
              <p:cNvSpPr/>
              <p:nvPr/>
            </p:nvSpPr>
            <p:spPr>
              <a:xfrm flipH="1">
                <a:off x="220428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AutoShape 15"/>
              <p:cNvSpPr/>
              <p:nvPr/>
            </p:nvSpPr>
            <p:spPr>
              <a:xfrm rot="10800000">
                <a:off x="241596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AutoShape 16"/>
              <p:cNvSpPr/>
              <p:nvPr/>
            </p:nvSpPr>
            <p:spPr>
              <a:xfrm flipH="1">
                <a:off x="262836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AutoShape 17"/>
              <p:cNvSpPr/>
              <p:nvPr/>
            </p:nvSpPr>
            <p:spPr>
              <a:xfrm rot="10800000">
                <a:off x="283644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AutoShape 18"/>
              <p:cNvSpPr/>
              <p:nvPr/>
            </p:nvSpPr>
            <p:spPr>
              <a:xfrm flipH="1">
                <a:off x="304812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AutoShape 19"/>
              <p:cNvSpPr/>
              <p:nvPr/>
            </p:nvSpPr>
            <p:spPr>
              <a:xfrm rot="10800000">
                <a:off x="32608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AutoShape 20"/>
              <p:cNvSpPr/>
              <p:nvPr/>
            </p:nvSpPr>
            <p:spPr>
              <a:xfrm flipH="1">
                <a:off x="3471840" y="648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AutoShape 21"/>
              <p:cNvSpPr/>
              <p:nvPr/>
            </p:nvSpPr>
            <p:spPr>
              <a:xfrm rot="10800000">
                <a:off x="3677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AutoShape 22"/>
              <p:cNvSpPr/>
              <p:nvPr/>
            </p:nvSpPr>
            <p:spPr>
              <a:xfrm flipH="1">
                <a:off x="3890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AutoShape 23"/>
              <p:cNvSpPr/>
              <p:nvPr/>
            </p:nvSpPr>
            <p:spPr>
              <a:xfrm rot="10800000">
                <a:off x="41018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AutoShape 24"/>
              <p:cNvSpPr/>
              <p:nvPr/>
            </p:nvSpPr>
            <p:spPr>
              <a:xfrm flipH="1">
                <a:off x="431496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AutoShape 25"/>
              <p:cNvSpPr/>
              <p:nvPr/>
            </p:nvSpPr>
            <p:spPr>
              <a:xfrm rot="10800000">
                <a:off x="4525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AutoShape 26"/>
              <p:cNvSpPr/>
              <p:nvPr/>
            </p:nvSpPr>
            <p:spPr>
              <a:xfrm flipH="1">
                <a:off x="47340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AutoShape 27"/>
              <p:cNvSpPr/>
              <p:nvPr/>
            </p:nvSpPr>
            <p:spPr>
              <a:xfrm rot="10800000">
                <a:off x="494460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AutoShape 28"/>
              <p:cNvSpPr/>
              <p:nvPr/>
            </p:nvSpPr>
            <p:spPr>
              <a:xfrm flipH="1">
                <a:off x="51570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AutoShape 29"/>
              <p:cNvSpPr/>
              <p:nvPr/>
            </p:nvSpPr>
            <p:spPr>
              <a:xfrm rot="10800000">
                <a:off x="536688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AutoShape 30"/>
              <p:cNvSpPr/>
              <p:nvPr/>
            </p:nvSpPr>
            <p:spPr>
              <a:xfrm flipH="1">
                <a:off x="55800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AutoShape 31"/>
              <p:cNvSpPr/>
              <p:nvPr/>
            </p:nvSpPr>
            <p:spPr>
              <a:xfrm rot="10800000">
                <a:off x="5787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AutoShape 32"/>
              <p:cNvSpPr/>
              <p:nvPr/>
            </p:nvSpPr>
            <p:spPr>
              <a:xfrm flipH="1">
                <a:off x="59983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AutoShape 33"/>
              <p:cNvSpPr/>
              <p:nvPr/>
            </p:nvSpPr>
            <p:spPr>
              <a:xfrm rot="10800000">
                <a:off x="62082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AutoShape 34"/>
              <p:cNvSpPr/>
              <p:nvPr/>
            </p:nvSpPr>
            <p:spPr>
              <a:xfrm flipH="1">
                <a:off x="6419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AutoShape 35"/>
              <p:cNvSpPr/>
              <p:nvPr/>
            </p:nvSpPr>
            <p:spPr>
              <a:xfrm rot="10800000">
                <a:off x="663048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AutoShape 36"/>
              <p:cNvSpPr/>
              <p:nvPr/>
            </p:nvSpPr>
            <p:spPr>
              <a:xfrm flipH="1">
                <a:off x="68454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AutoShape 37"/>
              <p:cNvSpPr/>
              <p:nvPr/>
            </p:nvSpPr>
            <p:spPr>
              <a:xfrm rot="10800000">
                <a:off x="7054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AutoShape 38"/>
              <p:cNvSpPr/>
              <p:nvPr/>
            </p:nvSpPr>
            <p:spPr>
              <a:xfrm flipH="1">
                <a:off x="72637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AutoShape 39"/>
              <p:cNvSpPr/>
              <p:nvPr/>
            </p:nvSpPr>
            <p:spPr>
              <a:xfrm rot="10800000">
                <a:off x="747504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AutoShape 40"/>
              <p:cNvSpPr/>
              <p:nvPr/>
            </p:nvSpPr>
            <p:spPr>
              <a:xfrm flipH="1">
                <a:off x="768672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AutoShape 41"/>
              <p:cNvSpPr/>
              <p:nvPr/>
            </p:nvSpPr>
            <p:spPr>
              <a:xfrm rot="10800000">
                <a:off x="78994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AutoShape 42"/>
              <p:cNvSpPr/>
              <p:nvPr/>
            </p:nvSpPr>
            <p:spPr>
              <a:xfrm flipH="1">
                <a:off x="81241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AutoShape 43"/>
              <p:cNvSpPr/>
              <p:nvPr/>
            </p:nvSpPr>
            <p:spPr>
              <a:xfrm rot="10800000">
                <a:off x="83372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AutoShape 44"/>
              <p:cNvSpPr/>
              <p:nvPr/>
            </p:nvSpPr>
            <p:spPr>
              <a:xfrm flipH="1">
                <a:off x="854784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" name="Group 45"/>
            <p:cNvGrpSpPr/>
            <p:nvPr/>
          </p:nvGrpSpPr>
          <p:grpSpPr>
            <a:xfrm>
              <a:off x="8726040" y="6480"/>
              <a:ext cx="438480" cy="6832440"/>
              <a:chOff x="8726040" y="6480"/>
              <a:chExt cx="438480" cy="6832440"/>
            </a:xfrm>
          </p:grpSpPr>
          <p:sp>
            <p:nvSpPr>
              <p:cNvPr id="44" name="Rectangle 46"/>
              <p:cNvSpPr/>
              <p:nvPr/>
            </p:nvSpPr>
            <p:spPr>
              <a:xfrm>
                <a:off x="8766000" y="648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AutoShape 47"/>
              <p:cNvSpPr/>
              <p:nvPr/>
            </p:nvSpPr>
            <p:spPr>
              <a:xfrm flipH="1" rot="5400000">
                <a:off x="8765280" y="34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AutoShape 48"/>
              <p:cNvSpPr/>
              <p:nvPr/>
            </p:nvSpPr>
            <p:spPr>
              <a:xfrm rot="16200000">
                <a:off x="8766000" y="250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AutoShape 49"/>
              <p:cNvSpPr/>
              <p:nvPr/>
            </p:nvSpPr>
            <p:spPr>
              <a:xfrm flipH="1" rot="5400000">
                <a:off x="8766360" y="4651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AutoShape 50"/>
              <p:cNvSpPr/>
              <p:nvPr/>
            </p:nvSpPr>
            <p:spPr>
              <a:xfrm rot="16200000">
                <a:off x="8766000" y="6886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AutoShape 51"/>
              <p:cNvSpPr/>
              <p:nvPr/>
            </p:nvSpPr>
            <p:spPr>
              <a:xfrm flipH="1" rot="5400000">
                <a:off x="8765280" y="8982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AutoShape 52"/>
              <p:cNvSpPr/>
              <p:nvPr/>
            </p:nvSpPr>
            <p:spPr>
              <a:xfrm rot="16200000">
                <a:off x="8766000" y="111240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AutoShape 53"/>
              <p:cNvSpPr/>
              <p:nvPr/>
            </p:nvSpPr>
            <p:spPr>
              <a:xfrm flipH="1" rot="5400000">
                <a:off x="8765280" y="13237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AutoShape 54"/>
              <p:cNvSpPr/>
              <p:nvPr/>
            </p:nvSpPr>
            <p:spPr>
              <a:xfrm rot="16200000">
                <a:off x="8766000" y="1533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AutoShape 55"/>
              <p:cNvSpPr/>
              <p:nvPr/>
            </p:nvSpPr>
            <p:spPr>
              <a:xfrm flipH="1" rot="5400000">
                <a:off x="8765280" y="17427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AutoShape 56"/>
              <p:cNvSpPr/>
              <p:nvPr/>
            </p:nvSpPr>
            <p:spPr>
              <a:xfrm rot="16200000">
                <a:off x="8766000" y="19569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AutoShape 57"/>
              <p:cNvSpPr/>
              <p:nvPr/>
            </p:nvSpPr>
            <p:spPr>
              <a:xfrm flipH="1" rot="5400000">
                <a:off x="8765280" y="2166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AutoShape 58"/>
              <p:cNvSpPr/>
              <p:nvPr/>
            </p:nvSpPr>
            <p:spPr>
              <a:xfrm rot="16200000">
                <a:off x="8766000" y="23778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AutoShape 59"/>
              <p:cNvSpPr/>
              <p:nvPr/>
            </p:nvSpPr>
            <p:spPr>
              <a:xfrm flipH="1" rot="5400000">
                <a:off x="8766360" y="25909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AutoShape 60"/>
              <p:cNvSpPr/>
              <p:nvPr/>
            </p:nvSpPr>
            <p:spPr>
              <a:xfrm rot="16200000">
                <a:off x="8766000" y="28015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AutoShape 61"/>
              <p:cNvSpPr/>
              <p:nvPr/>
            </p:nvSpPr>
            <p:spPr>
              <a:xfrm flipH="1" rot="5400000">
                <a:off x="8765280" y="3012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AutoShape 62"/>
              <p:cNvSpPr/>
              <p:nvPr/>
            </p:nvSpPr>
            <p:spPr>
              <a:xfrm rot="16200000">
                <a:off x="8766000" y="322524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AutoShape 63"/>
              <p:cNvSpPr/>
              <p:nvPr/>
            </p:nvSpPr>
            <p:spPr>
              <a:xfrm flipH="1" rot="5400000">
                <a:off x="8765280" y="34351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AutoShape 64"/>
              <p:cNvSpPr/>
              <p:nvPr/>
            </p:nvSpPr>
            <p:spPr>
              <a:xfrm rot="16200000">
                <a:off x="8766000" y="36460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AutoShape 65"/>
              <p:cNvSpPr/>
              <p:nvPr/>
            </p:nvSpPr>
            <p:spPr>
              <a:xfrm flipH="1" rot="5400000">
                <a:off x="8766360" y="38592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AutoShape 66"/>
              <p:cNvSpPr/>
              <p:nvPr/>
            </p:nvSpPr>
            <p:spPr>
              <a:xfrm rot="16200000">
                <a:off x="8766000" y="40701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AutoShape 67"/>
              <p:cNvSpPr/>
              <p:nvPr/>
            </p:nvSpPr>
            <p:spPr>
              <a:xfrm flipH="1" rot="5400000">
                <a:off x="8765280" y="42811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AutoShape 68"/>
              <p:cNvSpPr/>
              <p:nvPr/>
            </p:nvSpPr>
            <p:spPr>
              <a:xfrm rot="16200000">
                <a:off x="8766000" y="44906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AutoShape 69"/>
              <p:cNvSpPr/>
              <p:nvPr/>
            </p:nvSpPr>
            <p:spPr>
              <a:xfrm flipH="1" rot="5400000">
                <a:off x="8765280" y="47034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AutoShape 70"/>
              <p:cNvSpPr/>
              <p:nvPr/>
            </p:nvSpPr>
            <p:spPr>
              <a:xfrm rot="16200000">
                <a:off x="8766000" y="49147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AutoShape 71"/>
              <p:cNvSpPr/>
              <p:nvPr/>
            </p:nvSpPr>
            <p:spPr>
              <a:xfrm flipH="1" rot="5400000">
                <a:off x="8765280" y="51242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AutoShape 72"/>
              <p:cNvSpPr/>
              <p:nvPr/>
            </p:nvSpPr>
            <p:spPr>
              <a:xfrm rot="16200000">
                <a:off x="8766360" y="53388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>
                <a:off x="8766000" y="640080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AutoShape 74"/>
              <p:cNvSpPr/>
              <p:nvPr/>
            </p:nvSpPr>
            <p:spPr>
              <a:xfrm flipH="1" rot="5400000">
                <a:off x="8765280" y="55497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AutoShape 75"/>
              <p:cNvSpPr/>
              <p:nvPr/>
            </p:nvSpPr>
            <p:spPr>
              <a:xfrm rot="16200000">
                <a:off x="8766000" y="575928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AutoShape 76"/>
              <p:cNvSpPr/>
              <p:nvPr/>
            </p:nvSpPr>
            <p:spPr>
              <a:xfrm flipH="1" rot="5400000">
                <a:off x="8766000" y="597636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AutoShape 77"/>
              <p:cNvSpPr/>
              <p:nvPr/>
            </p:nvSpPr>
            <p:spPr>
              <a:xfrm rot="16200000">
                <a:off x="8766000" y="6186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AutoShape 78"/>
              <p:cNvSpPr/>
              <p:nvPr/>
            </p:nvSpPr>
            <p:spPr>
              <a:xfrm flipH="1" rot="5400000">
                <a:off x="8765280" y="64004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Group 79"/>
            <p:cNvGrpSpPr/>
            <p:nvPr/>
          </p:nvGrpSpPr>
          <p:grpSpPr>
            <a:xfrm>
              <a:off x="35640" y="6481800"/>
              <a:ext cx="8738640" cy="358560"/>
              <a:chOff x="35640" y="6481800"/>
              <a:chExt cx="8738640" cy="358560"/>
            </a:xfrm>
          </p:grpSpPr>
          <p:sp>
            <p:nvSpPr>
              <p:cNvPr id="78" name="AutoShape 80"/>
              <p:cNvSpPr/>
              <p:nvPr/>
            </p:nvSpPr>
            <p:spPr>
              <a:xfrm rot="10800000">
                <a:off x="8545680" y="6483240"/>
                <a:ext cx="217440" cy="355680"/>
              </a:xfrm>
              <a:prstGeom prst="rtTriangle">
                <a:avLst/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AutoShape 81"/>
              <p:cNvSpPr/>
              <p:nvPr/>
            </p:nvSpPr>
            <p:spPr>
              <a:xfrm flipH="1">
                <a:off x="8332920" y="648324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AutoShape 82"/>
              <p:cNvSpPr/>
              <p:nvPr/>
            </p:nvSpPr>
            <p:spPr>
              <a:xfrm rot="10800000">
                <a:off x="8121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AutoShape 83"/>
              <p:cNvSpPr/>
              <p:nvPr/>
            </p:nvSpPr>
            <p:spPr>
              <a:xfrm flipH="1">
                <a:off x="7913520" y="6483240"/>
                <a:ext cx="4384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AutoShape 84"/>
              <p:cNvSpPr/>
              <p:nvPr/>
            </p:nvSpPr>
            <p:spPr>
              <a:xfrm rot="10800000">
                <a:off x="7699320" y="648180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AutoShape 85"/>
              <p:cNvSpPr/>
              <p:nvPr/>
            </p:nvSpPr>
            <p:spPr>
              <a:xfrm flipH="1">
                <a:off x="7475400" y="648324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AutoShape 86"/>
              <p:cNvSpPr/>
              <p:nvPr/>
            </p:nvSpPr>
            <p:spPr>
              <a:xfrm flipH="1" rot="10800000">
                <a:off x="725472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AutoShape 87"/>
              <p:cNvSpPr/>
              <p:nvPr/>
            </p:nvSpPr>
            <p:spPr>
              <a:xfrm>
                <a:off x="70437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AutoShape 88"/>
              <p:cNvSpPr/>
              <p:nvPr/>
            </p:nvSpPr>
            <p:spPr>
              <a:xfrm flipH="1" rot="10800000">
                <a:off x="68284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AutoShape 89"/>
              <p:cNvSpPr/>
              <p:nvPr/>
            </p:nvSpPr>
            <p:spPr>
              <a:xfrm>
                <a:off x="661824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AutoShape 90"/>
              <p:cNvSpPr/>
              <p:nvPr/>
            </p:nvSpPr>
            <p:spPr>
              <a:xfrm flipH="1" rot="10800000">
                <a:off x="64076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AutoShape 91"/>
              <p:cNvSpPr/>
              <p:nvPr/>
            </p:nvSpPr>
            <p:spPr>
              <a:xfrm>
                <a:off x="619596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AutoShape 92"/>
              <p:cNvSpPr/>
              <p:nvPr/>
            </p:nvSpPr>
            <p:spPr>
              <a:xfrm flipH="1" rot="10800000">
                <a:off x="598536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AutoShape 93"/>
              <p:cNvSpPr/>
              <p:nvPr/>
            </p:nvSpPr>
            <p:spPr>
              <a:xfrm>
                <a:off x="5773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AutoShape 94"/>
              <p:cNvSpPr/>
              <p:nvPr/>
            </p:nvSpPr>
            <p:spPr>
              <a:xfrm flipH="1" rot="10800000">
                <a:off x="55630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AutoShape 95"/>
              <p:cNvSpPr/>
              <p:nvPr/>
            </p:nvSpPr>
            <p:spPr>
              <a:xfrm>
                <a:off x="53546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AutoShape 96"/>
              <p:cNvSpPr/>
              <p:nvPr/>
            </p:nvSpPr>
            <p:spPr>
              <a:xfrm flipH="1" rot="10800000">
                <a:off x="51393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AutoShape 97"/>
              <p:cNvSpPr/>
              <p:nvPr/>
            </p:nvSpPr>
            <p:spPr>
              <a:xfrm>
                <a:off x="4930920" y="648324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AutoShape 98"/>
              <p:cNvSpPr/>
              <p:nvPr/>
            </p:nvSpPr>
            <p:spPr>
              <a:xfrm flipH="1" rot="10800000">
                <a:off x="47170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AutoShape 99"/>
              <p:cNvSpPr/>
              <p:nvPr/>
            </p:nvSpPr>
            <p:spPr>
              <a:xfrm>
                <a:off x="451152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AutoShape 100"/>
              <p:cNvSpPr/>
              <p:nvPr/>
            </p:nvSpPr>
            <p:spPr>
              <a:xfrm flipH="1" rot="10800000">
                <a:off x="4296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AutoShape 101"/>
              <p:cNvSpPr/>
              <p:nvPr/>
            </p:nvSpPr>
            <p:spPr>
              <a:xfrm>
                <a:off x="40863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AutoShape 102"/>
              <p:cNvSpPr/>
              <p:nvPr/>
            </p:nvSpPr>
            <p:spPr>
              <a:xfrm flipH="1" rot="10800000">
                <a:off x="387504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AutoShape 103"/>
              <p:cNvSpPr/>
              <p:nvPr/>
            </p:nvSpPr>
            <p:spPr>
              <a:xfrm>
                <a:off x="36640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AutoShape 104"/>
              <p:cNvSpPr/>
              <p:nvPr/>
            </p:nvSpPr>
            <p:spPr>
              <a:xfrm flipH="1" rot="10800000">
                <a:off x="34495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AutoShape 105"/>
              <p:cNvSpPr/>
              <p:nvPr/>
            </p:nvSpPr>
            <p:spPr>
              <a:xfrm>
                <a:off x="324180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AutoShape 106"/>
              <p:cNvSpPr/>
              <p:nvPr/>
            </p:nvSpPr>
            <p:spPr>
              <a:xfrm flipH="1" rot="10800000">
                <a:off x="30279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AutoShape 107"/>
              <p:cNvSpPr/>
              <p:nvPr/>
            </p:nvSpPr>
            <p:spPr>
              <a:xfrm>
                <a:off x="2819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AutoShape 108"/>
              <p:cNvSpPr/>
              <p:nvPr/>
            </p:nvSpPr>
            <p:spPr>
              <a:xfrm flipH="1" rot="10800000">
                <a:off x="2608200" y="6481800"/>
                <a:ext cx="4348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AutoShape 109"/>
              <p:cNvSpPr/>
              <p:nvPr/>
            </p:nvSpPr>
            <p:spPr>
              <a:xfrm>
                <a:off x="23954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AutoShape 110"/>
              <p:cNvSpPr/>
              <p:nvPr/>
            </p:nvSpPr>
            <p:spPr>
              <a:xfrm flipH="1" rot="10800000">
                <a:off x="2184480" y="648180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AutoShape 111"/>
              <p:cNvSpPr/>
              <p:nvPr/>
            </p:nvSpPr>
            <p:spPr>
              <a:xfrm>
                <a:off x="197316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AutoShape 112"/>
              <p:cNvSpPr/>
              <p:nvPr/>
            </p:nvSpPr>
            <p:spPr>
              <a:xfrm flipH="1" rot="10800000">
                <a:off x="175932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AutoShape 113"/>
              <p:cNvSpPr/>
              <p:nvPr/>
            </p:nvSpPr>
            <p:spPr>
              <a:xfrm>
                <a:off x="1552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AutoShape 114"/>
              <p:cNvSpPr/>
              <p:nvPr/>
            </p:nvSpPr>
            <p:spPr>
              <a:xfrm flipH="1" rot="10800000">
                <a:off x="13381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AutoShape 115"/>
              <p:cNvSpPr/>
              <p:nvPr/>
            </p:nvSpPr>
            <p:spPr>
              <a:xfrm>
                <a:off x="112860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AutoShape 116"/>
              <p:cNvSpPr/>
              <p:nvPr/>
            </p:nvSpPr>
            <p:spPr>
              <a:xfrm flipH="1" rot="10800000">
                <a:off x="9165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AutoShape 117"/>
              <p:cNvSpPr/>
              <p:nvPr/>
            </p:nvSpPr>
            <p:spPr>
              <a:xfrm>
                <a:off x="70488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AutoShape 118"/>
              <p:cNvSpPr/>
              <p:nvPr/>
            </p:nvSpPr>
            <p:spPr>
              <a:xfrm flipH="1" rot="10800000">
                <a:off x="47376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AutoShape 119"/>
              <p:cNvSpPr/>
              <p:nvPr/>
            </p:nvSpPr>
            <p:spPr>
              <a:xfrm>
                <a:off x="263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AutoShape 120"/>
              <p:cNvSpPr/>
              <p:nvPr/>
            </p:nvSpPr>
            <p:spPr>
              <a:xfrm flipH="1" rot="10800000">
                <a:off x="352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Group 121"/>
            <p:cNvGrpSpPr/>
            <p:nvPr/>
          </p:nvGrpSpPr>
          <p:grpSpPr>
            <a:xfrm>
              <a:off x="-30600" y="6480"/>
              <a:ext cx="438480" cy="6832440"/>
              <a:chOff x="-30600" y="6480"/>
              <a:chExt cx="438480" cy="6832440"/>
            </a:xfrm>
          </p:grpSpPr>
          <p:sp>
            <p:nvSpPr>
              <p:cNvPr id="120" name="Rectangle 122"/>
              <p:cNvSpPr/>
              <p:nvPr/>
            </p:nvSpPr>
            <p:spPr>
              <a:xfrm>
                <a:off x="6480" y="640080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AutoShape 123"/>
              <p:cNvSpPr/>
              <p:nvPr/>
            </p:nvSpPr>
            <p:spPr>
              <a:xfrm rot="16200000">
                <a:off x="6120" y="6368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AutoShape 124"/>
              <p:cNvSpPr/>
              <p:nvPr/>
            </p:nvSpPr>
            <p:spPr>
              <a:xfrm flipH="1" rot="5400000">
                <a:off x="5400" y="61592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AutoShape 125"/>
              <p:cNvSpPr/>
              <p:nvPr/>
            </p:nvSpPr>
            <p:spPr>
              <a:xfrm rot="16200000">
                <a:off x="6480" y="594828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AutoShape 126"/>
              <p:cNvSpPr/>
              <p:nvPr/>
            </p:nvSpPr>
            <p:spPr>
              <a:xfrm flipH="1" rot="5400000">
                <a:off x="5040" y="573372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AutoShape 127"/>
              <p:cNvSpPr/>
              <p:nvPr/>
            </p:nvSpPr>
            <p:spPr>
              <a:xfrm rot="16200000">
                <a:off x="6120" y="55242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AutoShape 128"/>
              <p:cNvSpPr/>
              <p:nvPr/>
            </p:nvSpPr>
            <p:spPr>
              <a:xfrm flipH="1" rot="5400000">
                <a:off x="5400" y="53146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AutoShape 129"/>
              <p:cNvSpPr/>
              <p:nvPr/>
            </p:nvSpPr>
            <p:spPr>
              <a:xfrm rot="16200000">
                <a:off x="6120" y="5100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AutoShape 130"/>
              <p:cNvSpPr/>
              <p:nvPr/>
            </p:nvSpPr>
            <p:spPr>
              <a:xfrm flipH="1" rot="5400000">
                <a:off x="5040" y="488916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AutoShape 131"/>
              <p:cNvSpPr/>
              <p:nvPr/>
            </p:nvSpPr>
            <p:spPr>
              <a:xfrm rot="16200000">
                <a:off x="6120" y="467964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AutoShape 132"/>
              <p:cNvSpPr/>
              <p:nvPr/>
            </p:nvSpPr>
            <p:spPr>
              <a:xfrm flipH="1" rot="5400000">
                <a:off x="5400" y="4465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AutoShape 133"/>
              <p:cNvSpPr/>
              <p:nvPr/>
            </p:nvSpPr>
            <p:spPr>
              <a:xfrm rot="16200000">
                <a:off x="6120" y="42559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AutoShape 134"/>
              <p:cNvSpPr/>
              <p:nvPr/>
            </p:nvSpPr>
            <p:spPr>
              <a:xfrm flipH="1" rot="5400000">
                <a:off x="5400" y="40464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AutoShape 135"/>
              <p:cNvSpPr/>
              <p:nvPr/>
            </p:nvSpPr>
            <p:spPr>
              <a:xfrm rot="16200000">
                <a:off x="6480" y="383544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AutoShape 136"/>
              <p:cNvSpPr/>
              <p:nvPr/>
            </p:nvSpPr>
            <p:spPr>
              <a:xfrm flipH="1" rot="5400000">
                <a:off x="5400" y="3620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AutoShape 137"/>
              <p:cNvSpPr/>
              <p:nvPr/>
            </p:nvSpPr>
            <p:spPr>
              <a:xfrm rot="16200000">
                <a:off x="6120" y="34113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AutoShape 138"/>
              <p:cNvSpPr/>
              <p:nvPr/>
            </p:nvSpPr>
            <p:spPr>
              <a:xfrm flipH="1" rot="5400000">
                <a:off x="6120" y="32004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AutoShape 139"/>
              <p:cNvSpPr/>
              <p:nvPr/>
            </p:nvSpPr>
            <p:spPr>
              <a:xfrm rot="16200000">
                <a:off x="6120" y="29876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AutoShape 140"/>
              <p:cNvSpPr/>
              <p:nvPr/>
            </p:nvSpPr>
            <p:spPr>
              <a:xfrm flipH="1" rot="5400000">
                <a:off x="5400" y="27763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AutoShape 141"/>
              <p:cNvSpPr/>
              <p:nvPr/>
            </p:nvSpPr>
            <p:spPr>
              <a:xfrm rot="16200000">
                <a:off x="6120" y="25668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AutoShape 142"/>
              <p:cNvSpPr/>
              <p:nvPr/>
            </p:nvSpPr>
            <p:spPr>
              <a:xfrm flipH="1" rot="5400000">
                <a:off x="5400" y="23540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AutoShape 143"/>
              <p:cNvSpPr/>
              <p:nvPr/>
            </p:nvSpPr>
            <p:spPr>
              <a:xfrm rot="16200000">
                <a:off x="6120" y="21430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AutoShape 144"/>
              <p:cNvSpPr/>
              <p:nvPr/>
            </p:nvSpPr>
            <p:spPr>
              <a:xfrm flipH="1" rot="5400000">
                <a:off x="5400" y="1931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AutoShape 145"/>
              <p:cNvSpPr/>
              <p:nvPr/>
            </p:nvSpPr>
            <p:spPr>
              <a:xfrm rot="16200000">
                <a:off x="6480" y="17226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AutoShape 146"/>
              <p:cNvSpPr/>
              <p:nvPr/>
            </p:nvSpPr>
            <p:spPr>
              <a:xfrm flipH="1" rot="5400000">
                <a:off x="5400" y="1509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AutoShape 147"/>
              <p:cNvSpPr/>
              <p:nvPr/>
            </p:nvSpPr>
            <p:spPr>
              <a:xfrm rot="16200000">
                <a:off x="6120" y="12985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AutoShape 148"/>
              <p:cNvSpPr/>
              <p:nvPr/>
            </p:nvSpPr>
            <p:spPr>
              <a:xfrm flipH="1" rot="5400000">
                <a:off x="6120" y="1090080"/>
                <a:ext cx="365400" cy="4348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AutoShape 149"/>
              <p:cNvSpPr/>
              <p:nvPr/>
            </p:nvSpPr>
            <p:spPr>
              <a:xfrm rot="16200000">
                <a:off x="6120" y="874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AutoShape 150"/>
              <p:cNvSpPr/>
              <p:nvPr/>
            </p:nvSpPr>
            <p:spPr>
              <a:xfrm flipH="1" rot="5400000">
                <a:off x="5400" y="6681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AutoShape 151"/>
              <p:cNvSpPr/>
              <p:nvPr/>
            </p:nvSpPr>
            <p:spPr>
              <a:xfrm rot="16200000">
                <a:off x="6120" y="4539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Rectangle 152"/>
              <p:cNvSpPr/>
              <p:nvPr/>
            </p:nvSpPr>
            <p:spPr>
              <a:xfrm>
                <a:off x="6480" y="648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AutoShape 153"/>
              <p:cNvSpPr/>
              <p:nvPr/>
            </p:nvSpPr>
            <p:spPr>
              <a:xfrm flipH="1" rot="5400000">
                <a:off x="5400" y="2332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AutoShape 154"/>
              <p:cNvSpPr/>
              <p:nvPr/>
            </p:nvSpPr>
            <p:spPr>
              <a:xfrm rot="16200000">
                <a:off x="6120" y="29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"/>
          </p:nvPr>
        </p:nvSpPr>
        <p:spPr>
          <a:xfrm>
            <a:off x="685800" y="61718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sldNum" idx="2"/>
          </p:nvPr>
        </p:nvSpPr>
        <p:spPr>
          <a:xfrm>
            <a:off x="6553080" y="61718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88B3-04C0-4C24-8B66-5AC1D553C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3"/>
          </p:nvPr>
        </p:nvSpPr>
        <p:spPr>
          <a:xfrm>
            <a:off x="3124080" y="61718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-30600" y="6120"/>
            <a:ext cx="9195120" cy="6834240"/>
            <a:chOff x="-30600" y="6120"/>
            <a:chExt cx="9195120" cy="6834240"/>
          </a:xfrm>
        </p:grpSpPr>
        <p:grpSp>
          <p:nvGrpSpPr>
            <p:cNvPr id="195" name="Group 3"/>
            <p:cNvGrpSpPr/>
            <p:nvPr/>
          </p:nvGrpSpPr>
          <p:grpSpPr>
            <a:xfrm>
              <a:off x="90000" y="6120"/>
              <a:ext cx="8894880" cy="368640"/>
              <a:chOff x="90000" y="6120"/>
              <a:chExt cx="8894880" cy="368640"/>
            </a:xfrm>
          </p:grpSpPr>
          <p:sp>
            <p:nvSpPr>
              <p:cNvPr id="196" name="AutoShape 4"/>
              <p:cNvSpPr/>
              <p:nvPr/>
            </p:nvSpPr>
            <p:spPr>
              <a:xfrm flipH="1">
                <a:off x="896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AutoShape 5"/>
              <p:cNvSpPr/>
              <p:nvPr/>
            </p:nvSpPr>
            <p:spPr>
              <a:xfrm rot="10800000">
                <a:off x="302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AutoShape 6"/>
              <p:cNvSpPr/>
              <p:nvPr/>
            </p:nvSpPr>
            <p:spPr>
              <a:xfrm flipH="1">
                <a:off x="5184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AutoShape 7"/>
              <p:cNvSpPr/>
              <p:nvPr/>
            </p:nvSpPr>
            <p:spPr>
              <a:xfrm rot="10800000">
                <a:off x="729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AutoShape 8"/>
              <p:cNvSpPr/>
              <p:nvPr/>
            </p:nvSpPr>
            <p:spPr>
              <a:xfrm flipH="1">
                <a:off x="9414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AutoShape 9"/>
              <p:cNvSpPr/>
              <p:nvPr/>
            </p:nvSpPr>
            <p:spPr>
              <a:xfrm rot="10800000">
                <a:off x="1152360" y="576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AutoShape 10"/>
              <p:cNvSpPr/>
              <p:nvPr/>
            </p:nvSpPr>
            <p:spPr>
              <a:xfrm flipH="1">
                <a:off x="136440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AutoShape 11"/>
              <p:cNvSpPr/>
              <p:nvPr/>
            </p:nvSpPr>
            <p:spPr>
              <a:xfrm rot="10800000">
                <a:off x="15696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AutoShape 12"/>
              <p:cNvSpPr/>
              <p:nvPr/>
            </p:nvSpPr>
            <p:spPr>
              <a:xfrm flipH="1">
                <a:off x="17852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AutoShape 13"/>
              <p:cNvSpPr/>
              <p:nvPr/>
            </p:nvSpPr>
            <p:spPr>
              <a:xfrm rot="10800000">
                <a:off x="1994040" y="576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AutoShape 14"/>
              <p:cNvSpPr/>
              <p:nvPr/>
            </p:nvSpPr>
            <p:spPr>
              <a:xfrm flipH="1">
                <a:off x="220428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AutoShape 15"/>
              <p:cNvSpPr/>
              <p:nvPr/>
            </p:nvSpPr>
            <p:spPr>
              <a:xfrm rot="10800000">
                <a:off x="241596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AutoShape 16"/>
              <p:cNvSpPr/>
              <p:nvPr/>
            </p:nvSpPr>
            <p:spPr>
              <a:xfrm flipH="1">
                <a:off x="262836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AutoShape 17"/>
              <p:cNvSpPr/>
              <p:nvPr/>
            </p:nvSpPr>
            <p:spPr>
              <a:xfrm rot="10800000">
                <a:off x="283644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AutoShape 18"/>
              <p:cNvSpPr/>
              <p:nvPr/>
            </p:nvSpPr>
            <p:spPr>
              <a:xfrm flipH="1">
                <a:off x="304812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AutoShape 19"/>
              <p:cNvSpPr/>
              <p:nvPr/>
            </p:nvSpPr>
            <p:spPr>
              <a:xfrm rot="10800000">
                <a:off x="32608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AutoShape 20"/>
              <p:cNvSpPr/>
              <p:nvPr/>
            </p:nvSpPr>
            <p:spPr>
              <a:xfrm flipH="1">
                <a:off x="3471840" y="648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AutoShape 21"/>
              <p:cNvSpPr/>
              <p:nvPr/>
            </p:nvSpPr>
            <p:spPr>
              <a:xfrm rot="10800000">
                <a:off x="3677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AutoShape 22"/>
              <p:cNvSpPr/>
              <p:nvPr/>
            </p:nvSpPr>
            <p:spPr>
              <a:xfrm flipH="1">
                <a:off x="3890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AutoShape 23"/>
              <p:cNvSpPr/>
              <p:nvPr/>
            </p:nvSpPr>
            <p:spPr>
              <a:xfrm rot="10800000">
                <a:off x="41018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AutoShape 24"/>
              <p:cNvSpPr/>
              <p:nvPr/>
            </p:nvSpPr>
            <p:spPr>
              <a:xfrm flipH="1">
                <a:off x="431496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AutoShape 25"/>
              <p:cNvSpPr/>
              <p:nvPr/>
            </p:nvSpPr>
            <p:spPr>
              <a:xfrm rot="10800000">
                <a:off x="4525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AutoShape 26"/>
              <p:cNvSpPr/>
              <p:nvPr/>
            </p:nvSpPr>
            <p:spPr>
              <a:xfrm flipH="1">
                <a:off x="47340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AutoShape 27"/>
              <p:cNvSpPr/>
              <p:nvPr/>
            </p:nvSpPr>
            <p:spPr>
              <a:xfrm rot="10800000">
                <a:off x="494460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AutoShape 28"/>
              <p:cNvSpPr/>
              <p:nvPr/>
            </p:nvSpPr>
            <p:spPr>
              <a:xfrm flipH="1">
                <a:off x="51570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AutoShape 29"/>
              <p:cNvSpPr/>
              <p:nvPr/>
            </p:nvSpPr>
            <p:spPr>
              <a:xfrm rot="10800000">
                <a:off x="536688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AutoShape 30"/>
              <p:cNvSpPr/>
              <p:nvPr/>
            </p:nvSpPr>
            <p:spPr>
              <a:xfrm flipH="1">
                <a:off x="55800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AutoShape 31"/>
              <p:cNvSpPr/>
              <p:nvPr/>
            </p:nvSpPr>
            <p:spPr>
              <a:xfrm rot="10800000">
                <a:off x="5787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AutoShape 32"/>
              <p:cNvSpPr/>
              <p:nvPr/>
            </p:nvSpPr>
            <p:spPr>
              <a:xfrm flipH="1">
                <a:off x="59983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AutoShape 33"/>
              <p:cNvSpPr/>
              <p:nvPr/>
            </p:nvSpPr>
            <p:spPr>
              <a:xfrm rot="10800000">
                <a:off x="62082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AutoShape 34"/>
              <p:cNvSpPr/>
              <p:nvPr/>
            </p:nvSpPr>
            <p:spPr>
              <a:xfrm flipH="1">
                <a:off x="6419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AutoShape 35"/>
              <p:cNvSpPr/>
              <p:nvPr/>
            </p:nvSpPr>
            <p:spPr>
              <a:xfrm rot="10800000">
                <a:off x="663048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AutoShape 36"/>
              <p:cNvSpPr/>
              <p:nvPr/>
            </p:nvSpPr>
            <p:spPr>
              <a:xfrm flipH="1">
                <a:off x="68454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AutoShape 37"/>
              <p:cNvSpPr/>
              <p:nvPr/>
            </p:nvSpPr>
            <p:spPr>
              <a:xfrm rot="10800000">
                <a:off x="7054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AutoShape 38"/>
              <p:cNvSpPr/>
              <p:nvPr/>
            </p:nvSpPr>
            <p:spPr>
              <a:xfrm flipH="1">
                <a:off x="72637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AutoShape 39"/>
              <p:cNvSpPr/>
              <p:nvPr/>
            </p:nvSpPr>
            <p:spPr>
              <a:xfrm rot="10800000">
                <a:off x="747504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AutoShape 40"/>
              <p:cNvSpPr/>
              <p:nvPr/>
            </p:nvSpPr>
            <p:spPr>
              <a:xfrm flipH="1">
                <a:off x="768672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AutoShape 41"/>
              <p:cNvSpPr/>
              <p:nvPr/>
            </p:nvSpPr>
            <p:spPr>
              <a:xfrm rot="10800000">
                <a:off x="78994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AutoShape 42"/>
              <p:cNvSpPr/>
              <p:nvPr/>
            </p:nvSpPr>
            <p:spPr>
              <a:xfrm flipH="1">
                <a:off x="81241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AutoShape 43"/>
              <p:cNvSpPr/>
              <p:nvPr/>
            </p:nvSpPr>
            <p:spPr>
              <a:xfrm rot="10800000">
                <a:off x="83372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AutoShape 44"/>
              <p:cNvSpPr/>
              <p:nvPr/>
            </p:nvSpPr>
            <p:spPr>
              <a:xfrm flipH="1">
                <a:off x="854784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45"/>
            <p:cNvGrpSpPr/>
            <p:nvPr/>
          </p:nvGrpSpPr>
          <p:grpSpPr>
            <a:xfrm>
              <a:off x="8726040" y="6480"/>
              <a:ext cx="438480" cy="6832440"/>
              <a:chOff x="8726040" y="6480"/>
              <a:chExt cx="438480" cy="6832440"/>
            </a:xfrm>
          </p:grpSpPr>
          <p:sp>
            <p:nvSpPr>
              <p:cNvPr id="238" name="Rectangle 46"/>
              <p:cNvSpPr/>
              <p:nvPr/>
            </p:nvSpPr>
            <p:spPr>
              <a:xfrm>
                <a:off x="8766000" y="648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AutoShape 47"/>
              <p:cNvSpPr/>
              <p:nvPr/>
            </p:nvSpPr>
            <p:spPr>
              <a:xfrm flipH="1" rot="5400000">
                <a:off x="8765280" y="34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AutoShape 48"/>
              <p:cNvSpPr/>
              <p:nvPr/>
            </p:nvSpPr>
            <p:spPr>
              <a:xfrm rot="16200000">
                <a:off x="8766000" y="250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AutoShape 49"/>
              <p:cNvSpPr/>
              <p:nvPr/>
            </p:nvSpPr>
            <p:spPr>
              <a:xfrm flipH="1" rot="5400000">
                <a:off x="8766360" y="4651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AutoShape 50"/>
              <p:cNvSpPr/>
              <p:nvPr/>
            </p:nvSpPr>
            <p:spPr>
              <a:xfrm rot="16200000">
                <a:off x="8766000" y="6886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AutoShape 51"/>
              <p:cNvSpPr/>
              <p:nvPr/>
            </p:nvSpPr>
            <p:spPr>
              <a:xfrm flipH="1" rot="5400000">
                <a:off x="8765280" y="8982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AutoShape 52"/>
              <p:cNvSpPr/>
              <p:nvPr/>
            </p:nvSpPr>
            <p:spPr>
              <a:xfrm rot="16200000">
                <a:off x="8766000" y="111240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AutoShape 53"/>
              <p:cNvSpPr/>
              <p:nvPr/>
            </p:nvSpPr>
            <p:spPr>
              <a:xfrm flipH="1" rot="5400000">
                <a:off x="8765280" y="13237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AutoShape 54"/>
              <p:cNvSpPr/>
              <p:nvPr/>
            </p:nvSpPr>
            <p:spPr>
              <a:xfrm rot="16200000">
                <a:off x="8766000" y="1533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AutoShape 55"/>
              <p:cNvSpPr/>
              <p:nvPr/>
            </p:nvSpPr>
            <p:spPr>
              <a:xfrm flipH="1" rot="5400000">
                <a:off x="8765280" y="17427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AutoShape 56"/>
              <p:cNvSpPr/>
              <p:nvPr/>
            </p:nvSpPr>
            <p:spPr>
              <a:xfrm rot="16200000">
                <a:off x="8766000" y="19569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AutoShape 57"/>
              <p:cNvSpPr/>
              <p:nvPr/>
            </p:nvSpPr>
            <p:spPr>
              <a:xfrm flipH="1" rot="5400000">
                <a:off x="8765280" y="2166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AutoShape 58"/>
              <p:cNvSpPr/>
              <p:nvPr/>
            </p:nvSpPr>
            <p:spPr>
              <a:xfrm rot="16200000">
                <a:off x="8766000" y="23778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AutoShape 59"/>
              <p:cNvSpPr/>
              <p:nvPr/>
            </p:nvSpPr>
            <p:spPr>
              <a:xfrm flipH="1" rot="5400000">
                <a:off x="8766360" y="25909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AutoShape 60"/>
              <p:cNvSpPr/>
              <p:nvPr/>
            </p:nvSpPr>
            <p:spPr>
              <a:xfrm rot="16200000">
                <a:off x="8766000" y="28015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AutoShape 61"/>
              <p:cNvSpPr/>
              <p:nvPr/>
            </p:nvSpPr>
            <p:spPr>
              <a:xfrm flipH="1" rot="5400000">
                <a:off x="8765280" y="3012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AutoShape 62"/>
              <p:cNvSpPr/>
              <p:nvPr/>
            </p:nvSpPr>
            <p:spPr>
              <a:xfrm rot="16200000">
                <a:off x="8766000" y="322524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AutoShape 63"/>
              <p:cNvSpPr/>
              <p:nvPr/>
            </p:nvSpPr>
            <p:spPr>
              <a:xfrm flipH="1" rot="5400000">
                <a:off x="8765280" y="34351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AutoShape 64"/>
              <p:cNvSpPr/>
              <p:nvPr/>
            </p:nvSpPr>
            <p:spPr>
              <a:xfrm rot="16200000">
                <a:off x="8766000" y="36460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AutoShape 65"/>
              <p:cNvSpPr/>
              <p:nvPr/>
            </p:nvSpPr>
            <p:spPr>
              <a:xfrm flipH="1" rot="5400000">
                <a:off x="8766360" y="38592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AutoShape 66"/>
              <p:cNvSpPr/>
              <p:nvPr/>
            </p:nvSpPr>
            <p:spPr>
              <a:xfrm rot="16200000">
                <a:off x="8766000" y="40701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AutoShape 67"/>
              <p:cNvSpPr/>
              <p:nvPr/>
            </p:nvSpPr>
            <p:spPr>
              <a:xfrm flipH="1" rot="5400000">
                <a:off x="8765280" y="42811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AutoShape 68"/>
              <p:cNvSpPr/>
              <p:nvPr/>
            </p:nvSpPr>
            <p:spPr>
              <a:xfrm rot="16200000">
                <a:off x="8766000" y="44906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AutoShape 69"/>
              <p:cNvSpPr/>
              <p:nvPr/>
            </p:nvSpPr>
            <p:spPr>
              <a:xfrm flipH="1" rot="5400000">
                <a:off x="8765280" y="47034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AutoShape 70"/>
              <p:cNvSpPr/>
              <p:nvPr/>
            </p:nvSpPr>
            <p:spPr>
              <a:xfrm rot="16200000">
                <a:off x="8766000" y="49147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AutoShape 71"/>
              <p:cNvSpPr/>
              <p:nvPr/>
            </p:nvSpPr>
            <p:spPr>
              <a:xfrm flipH="1" rot="5400000">
                <a:off x="8765280" y="51242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AutoShape 72"/>
              <p:cNvSpPr/>
              <p:nvPr/>
            </p:nvSpPr>
            <p:spPr>
              <a:xfrm rot="16200000">
                <a:off x="8766360" y="53388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Rectangle 73"/>
              <p:cNvSpPr/>
              <p:nvPr/>
            </p:nvSpPr>
            <p:spPr>
              <a:xfrm>
                <a:off x="8766000" y="640080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AutoShape 74"/>
              <p:cNvSpPr/>
              <p:nvPr/>
            </p:nvSpPr>
            <p:spPr>
              <a:xfrm flipH="1" rot="5400000">
                <a:off x="8765280" y="55497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AutoShape 75"/>
              <p:cNvSpPr/>
              <p:nvPr/>
            </p:nvSpPr>
            <p:spPr>
              <a:xfrm rot="16200000">
                <a:off x="8766000" y="575928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AutoShape 76"/>
              <p:cNvSpPr/>
              <p:nvPr/>
            </p:nvSpPr>
            <p:spPr>
              <a:xfrm flipH="1" rot="5400000">
                <a:off x="8766000" y="597636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AutoShape 77"/>
              <p:cNvSpPr/>
              <p:nvPr/>
            </p:nvSpPr>
            <p:spPr>
              <a:xfrm rot="16200000">
                <a:off x="8766000" y="6186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AutoShape 78"/>
              <p:cNvSpPr/>
              <p:nvPr/>
            </p:nvSpPr>
            <p:spPr>
              <a:xfrm flipH="1" rot="5400000">
                <a:off x="8765280" y="64004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Group 79"/>
            <p:cNvGrpSpPr/>
            <p:nvPr/>
          </p:nvGrpSpPr>
          <p:grpSpPr>
            <a:xfrm>
              <a:off x="35640" y="6481800"/>
              <a:ext cx="8738640" cy="358560"/>
              <a:chOff x="35640" y="6481800"/>
              <a:chExt cx="8738640" cy="358560"/>
            </a:xfrm>
          </p:grpSpPr>
          <p:sp>
            <p:nvSpPr>
              <p:cNvPr id="272" name="AutoShape 80"/>
              <p:cNvSpPr/>
              <p:nvPr/>
            </p:nvSpPr>
            <p:spPr>
              <a:xfrm rot="10800000">
                <a:off x="8545680" y="6483240"/>
                <a:ext cx="217440" cy="355680"/>
              </a:xfrm>
              <a:prstGeom prst="rtTriangle">
                <a:avLst/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AutoShape 81"/>
              <p:cNvSpPr/>
              <p:nvPr/>
            </p:nvSpPr>
            <p:spPr>
              <a:xfrm flipH="1">
                <a:off x="8332920" y="648324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AutoShape 82"/>
              <p:cNvSpPr/>
              <p:nvPr/>
            </p:nvSpPr>
            <p:spPr>
              <a:xfrm rot="10800000">
                <a:off x="8121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AutoShape 83"/>
              <p:cNvSpPr/>
              <p:nvPr/>
            </p:nvSpPr>
            <p:spPr>
              <a:xfrm flipH="1">
                <a:off x="7913520" y="6483240"/>
                <a:ext cx="4384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AutoShape 84"/>
              <p:cNvSpPr/>
              <p:nvPr/>
            </p:nvSpPr>
            <p:spPr>
              <a:xfrm rot="10800000">
                <a:off x="7699320" y="648180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AutoShape 85"/>
              <p:cNvSpPr/>
              <p:nvPr/>
            </p:nvSpPr>
            <p:spPr>
              <a:xfrm flipH="1">
                <a:off x="7475400" y="648324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AutoShape 86"/>
              <p:cNvSpPr/>
              <p:nvPr/>
            </p:nvSpPr>
            <p:spPr>
              <a:xfrm flipH="1" rot="10800000">
                <a:off x="725472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AutoShape 87"/>
              <p:cNvSpPr/>
              <p:nvPr/>
            </p:nvSpPr>
            <p:spPr>
              <a:xfrm>
                <a:off x="70437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AutoShape 88"/>
              <p:cNvSpPr/>
              <p:nvPr/>
            </p:nvSpPr>
            <p:spPr>
              <a:xfrm flipH="1" rot="10800000">
                <a:off x="68284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AutoShape 89"/>
              <p:cNvSpPr/>
              <p:nvPr/>
            </p:nvSpPr>
            <p:spPr>
              <a:xfrm>
                <a:off x="661824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AutoShape 90"/>
              <p:cNvSpPr/>
              <p:nvPr/>
            </p:nvSpPr>
            <p:spPr>
              <a:xfrm flipH="1" rot="10800000">
                <a:off x="64076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AutoShape 91"/>
              <p:cNvSpPr/>
              <p:nvPr/>
            </p:nvSpPr>
            <p:spPr>
              <a:xfrm>
                <a:off x="619596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AutoShape 92"/>
              <p:cNvSpPr/>
              <p:nvPr/>
            </p:nvSpPr>
            <p:spPr>
              <a:xfrm flipH="1" rot="10800000">
                <a:off x="598536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AutoShape 93"/>
              <p:cNvSpPr/>
              <p:nvPr/>
            </p:nvSpPr>
            <p:spPr>
              <a:xfrm>
                <a:off x="5773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AutoShape 94"/>
              <p:cNvSpPr/>
              <p:nvPr/>
            </p:nvSpPr>
            <p:spPr>
              <a:xfrm flipH="1" rot="10800000">
                <a:off x="55630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AutoShape 95"/>
              <p:cNvSpPr/>
              <p:nvPr/>
            </p:nvSpPr>
            <p:spPr>
              <a:xfrm>
                <a:off x="53546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AutoShape 96"/>
              <p:cNvSpPr/>
              <p:nvPr/>
            </p:nvSpPr>
            <p:spPr>
              <a:xfrm flipH="1" rot="10800000">
                <a:off x="51393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AutoShape 97"/>
              <p:cNvSpPr/>
              <p:nvPr/>
            </p:nvSpPr>
            <p:spPr>
              <a:xfrm>
                <a:off x="4930920" y="648324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AutoShape 98"/>
              <p:cNvSpPr/>
              <p:nvPr/>
            </p:nvSpPr>
            <p:spPr>
              <a:xfrm flipH="1" rot="10800000">
                <a:off x="47170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AutoShape 99"/>
              <p:cNvSpPr/>
              <p:nvPr/>
            </p:nvSpPr>
            <p:spPr>
              <a:xfrm>
                <a:off x="451152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AutoShape 100"/>
              <p:cNvSpPr/>
              <p:nvPr/>
            </p:nvSpPr>
            <p:spPr>
              <a:xfrm flipH="1" rot="10800000">
                <a:off x="4296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AutoShape 101"/>
              <p:cNvSpPr/>
              <p:nvPr/>
            </p:nvSpPr>
            <p:spPr>
              <a:xfrm>
                <a:off x="40863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AutoShape 102"/>
              <p:cNvSpPr/>
              <p:nvPr/>
            </p:nvSpPr>
            <p:spPr>
              <a:xfrm flipH="1" rot="10800000">
                <a:off x="387504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AutoShape 103"/>
              <p:cNvSpPr/>
              <p:nvPr/>
            </p:nvSpPr>
            <p:spPr>
              <a:xfrm>
                <a:off x="36640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AutoShape 104"/>
              <p:cNvSpPr/>
              <p:nvPr/>
            </p:nvSpPr>
            <p:spPr>
              <a:xfrm flipH="1" rot="10800000">
                <a:off x="34495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AutoShape 105"/>
              <p:cNvSpPr/>
              <p:nvPr/>
            </p:nvSpPr>
            <p:spPr>
              <a:xfrm>
                <a:off x="324180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AutoShape 106"/>
              <p:cNvSpPr/>
              <p:nvPr/>
            </p:nvSpPr>
            <p:spPr>
              <a:xfrm flipH="1" rot="10800000">
                <a:off x="30279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AutoShape 107"/>
              <p:cNvSpPr/>
              <p:nvPr/>
            </p:nvSpPr>
            <p:spPr>
              <a:xfrm>
                <a:off x="2819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AutoShape 108"/>
              <p:cNvSpPr/>
              <p:nvPr/>
            </p:nvSpPr>
            <p:spPr>
              <a:xfrm flipH="1" rot="10800000">
                <a:off x="2608200" y="6481800"/>
                <a:ext cx="4348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AutoShape 109"/>
              <p:cNvSpPr/>
              <p:nvPr/>
            </p:nvSpPr>
            <p:spPr>
              <a:xfrm>
                <a:off x="23954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AutoShape 110"/>
              <p:cNvSpPr/>
              <p:nvPr/>
            </p:nvSpPr>
            <p:spPr>
              <a:xfrm flipH="1" rot="10800000">
                <a:off x="2184480" y="648180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AutoShape 111"/>
              <p:cNvSpPr/>
              <p:nvPr/>
            </p:nvSpPr>
            <p:spPr>
              <a:xfrm>
                <a:off x="197316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AutoShape 112"/>
              <p:cNvSpPr/>
              <p:nvPr/>
            </p:nvSpPr>
            <p:spPr>
              <a:xfrm flipH="1" rot="10800000">
                <a:off x="175932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AutoShape 113"/>
              <p:cNvSpPr/>
              <p:nvPr/>
            </p:nvSpPr>
            <p:spPr>
              <a:xfrm>
                <a:off x="1552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AutoShape 114"/>
              <p:cNvSpPr/>
              <p:nvPr/>
            </p:nvSpPr>
            <p:spPr>
              <a:xfrm flipH="1" rot="10800000">
                <a:off x="13381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AutoShape 115"/>
              <p:cNvSpPr/>
              <p:nvPr/>
            </p:nvSpPr>
            <p:spPr>
              <a:xfrm>
                <a:off x="112860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AutoShape 116"/>
              <p:cNvSpPr/>
              <p:nvPr/>
            </p:nvSpPr>
            <p:spPr>
              <a:xfrm flipH="1" rot="10800000">
                <a:off x="9165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AutoShape 117"/>
              <p:cNvSpPr/>
              <p:nvPr/>
            </p:nvSpPr>
            <p:spPr>
              <a:xfrm>
                <a:off x="70488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AutoShape 118"/>
              <p:cNvSpPr/>
              <p:nvPr/>
            </p:nvSpPr>
            <p:spPr>
              <a:xfrm flipH="1" rot="10800000">
                <a:off x="47376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AutoShape 119"/>
              <p:cNvSpPr/>
              <p:nvPr/>
            </p:nvSpPr>
            <p:spPr>
              <a:xfrm>
                <a:off x="263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AutoShape 120"/>
              <p:cNvSpPr/>
              <p:nvPr/>
            </p:nvSpPr>
            <p:spPr>
              <a:xfrm flipH="1" rot="10800000">
                <a:off x="352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Group 121"/>
            <p:cNvGrpSpPr/>
            <p:nvPr/>
          </p:nvGrpSpPr>
          <p:grpSpPr>
            <a:xfrm>
              <a:off x="-30600" y="6480"/>
              <a:ext cx="438480" cy="6832440"/>
              <a:chOff x="-30600" y="6480"/>
              <a:chExt cx="438480" cy="6832440"/>
            </a:xfrm>
          </p:grpSpPr>
          <p:sp>
            <p:nvSpPr>
              <p:cNvPr id="314" name="Rectangle 122"/>
              <p:cNvSpPr/>
              <p:nvPr/>
            </p:nvSpPr>
            <p:spPr>
              <a:xfrm>
                <a:off x="6480" y="640080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AutoShape 123"/>
              <p:cNvSpPr/>
              <p:nvPr/>
            </p:nvSpPr>
            <p:spPr>
              <a:xfrm rot="16200000">
                <a:off x="6120" y="6368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AutoShape 124"/>
              <p:cNvSpPr/>
              <p:nvPr/>
            </p:nvSpPr>
            <p:spPr>
              <a:xfrm flipH="1" rot="5400000">
                <a:off x="5400" y="61592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AutoShape 125"/>
              <p:cNvSpPr/>
              <p:nvPr/>
            </p:nvSpPr>
            <p:spPr>
              <a:xfrm rot="16200000">
                <a:off x="6480" y="594828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AutoShape 126"/>
              <p:cNvSpPr/>
              <p:nvPr/>
            </p:nvSpPr>
            <p:spPr>
              <a:xfrm flipH="1" rot="5400000">
                <a:off x="5040" y="573372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AutoShape 127"/>
              <p:cNvSpPr/>
              <p:nvPr/>
            </p:nvSpPr>
            <p:spPr>
              <a:xfrm rot="16200000">
                <a:off x="6120" y="55242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AutoShape 128"/>
              <p:cNvSpPr/>
              <p:nvPr/>
            </p:nvSpPr>
            <p:spPr>
              <a:xfrm flipH="1" rot="5400000">
                <a:off x="5400" y="53146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AutoShape 129"/>
              <p:cNvSpPr/>
              <p:nvPr/>
            </p:nvSpPr>
            <p:spPr>
              <a:xfrm rot="16200000">
                <a:off x="6120" y="5100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AutoShape 130"/>
              <p:cNvSpPr/>
              <p:nvPr/>
            </p:nvSpPr>
            <p:spPr>
              <a:xfrm flipH="1" rot="5400000">
                <a:off x="5040" y="488916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AutoShape 131"/>
              <p:cNvSpPr/>
              <p:nvPr/>
            </p:nvSpPr>
            <p:spPr>
              <a:xfrm rot="16200000">
                <a:off x="6120" y="467964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AutoShape 132"/>
              <p:cNvSpPr/>
              <p:nvPr/>
            </p:nvSpPr>
            <p:spPr>
              <a:xfrm flipH="1" rot="5400000">
                <a:off x="5400" y="4465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AutoShape 133"/>
              <p:cNvSpPr/>
              <p:nvPr/>
            </p:nvSpPr>
            <p:spPr>
              <a:xfrm rot="16200000">
                <a:off x="6120" y="42559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AutoShape 134"/>
              <p:cNvSpPr/>
              <p:nvPr/>
            </p:nvSpPr>
            <p:spPr>
              <a:xfrm flipH="1" rot="5400000">
                <a:off x="5400" y="40464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AutoShape 135"/>
              <p:cNvSpPr/>
              <p:nvPr/>
            </p:nvSpPr>
            <p:spPr>
              <a:xfrm rot="16200000">
                <a:off x="6480" y="383544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AutoShape 136"/>
              <p:cNvSpPr/>
              <p:nvPr/>
            </p:nvSpPr>
            <p:spPr>
              <a:xfrm flipH="1" rot="5400000">
                <a:off x="5400" y="3620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AutoShape 137"/>
              <p:cNvSpPr/>
              <p:nvPr/>
            </p:nvSpPr>
            <p:spPr>
              <a:xfrm rot="16200000">
                <a:off x="6120" y="34113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AutoShape 138"/>
              <p:cNvSpPr/>
              <p:nvPr/>
            </p:nvSpPr>
            <p:spPr>
              <a:xfrm flipH="1" rot="5400000">
                <a:off x="6120" y="32004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AutoShape 139"/>
              <p:cNvSpPr/>
              <p:nvPr/>
            </p:nvSpPr>
            <p:spPr>
              <a:xfrm rot="16200000">
                <a:off x="6120" y="29876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AutoShape 140"/>
              <p:cNvSpPr/>
              <p:nvPr/>
            </p:nvSpPr>
            <p:spPr>
              <a:xfrm flipH="1" rot="5400000">
                <a:off x="5400" y="27763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AutoShape 141"/>
              <p:cNvSpPr/>
              <p:nvPr/>
            </p:nvSpPr>
            <p:spPr>
              <a:xfrm rot="16200000">
                <a:off x="6120" y="25668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AutoShape 142"/>
              <p:cNvSpPr/>
              <p:nvPr/>
            </p:nvSpPr>
            <p:spPr>
              <a:xfrm flipH="1" rot="5400000">
                <a:off x="5400" y="23540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AutoShape 143"/>
              <p:cNvSpPr/>
              <p:nvPr/>
            </p:nvSpPr>
            <p:spPr>
              <a:xfrm rot="16200000">
                <a:off x="6120" y="21430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AutoShape 144"/>
              <p:cNvSpPr/>
              <p:nvPr/>
            </p:nvSpPr>
            <p:spPr>
              <a:xfrm flipH="1" rot="5400000">
                <a:off x="5400" y="1931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AutoShape 145"/>
              <p:cNvSpPr/>
              <p:nvPr/>
            </p:nvSpPr>
            <p:spPr>
              <a:xfrm rot="16200000">
                <a:off x="6480" y="17226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AutoShape 146"/>
              <p:cNvSpPr/>
              <p:nvPr/>
            </p:nvSpPr>
            <p:spPr>
              <a:xfrm flipH="1" rot="5400000">
                <a:off x="5400" y="1509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AutoShape 147"/>
              <p:cNvSpPr/>
              <p:nvPr/>
            </p:nvSpPr>
            <p:spPr>
              <a:xfrm rot="16200000">
                <a:off x="6120" y="12985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AutoShape 148"/>
              <p:cNvSpPr/>
              <p:nvPr/>
            </p:nvSpPr>
            <p:spPr>
              <a:xfrm flipH="1" rot="5400000">
                <a:off x="6120" y="1090080"/>
                <a:ext cx="365400" cy="4348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AutoShape 149"/>
              <p:cNvSpPr/>
              <p:nvPr/>
            </p:nvSpPr>
            <p:spPr>
              <a:xfrm rot="16200000">
                <a:off x="6120" y="874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AutoShape 150"/>
              <p:cNvSpPr/>
              <p:nvPr/>
            </p:nvSpPr>
            <p:spPr>
              <a:xfrm flipH="1" rot="5400000">
                <a:off x="5400" y="6681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AutoShape 151"/>
              <p:cNvSpPr/>
              <p:nvPr/>
            </p:nvSpPr>
            <p:spPr>
              <a:xfrm rot="16200000">
                <a:off x="6120" y="4539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Rectangle 152"/>
              <p:cNvSpPr/>
              <p:nvPr/>
            </p:nvSpPr>
            <p:spPr>
              <a:xfrm>
                <a:off x="6480" y="648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AutoShape 153"/>
              <p:cNvSpPr/>
              <p:nvPr/>
            </p:nvSpPr>
            <p:spPr>
              <a:xfrm flipH="1" rot="5400000">
                <a:off x="5400" y="2332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AutoShape 154"/>
              <p:cNvSpPr/>
              <p:nvPr/>
            </p:nvSpPr>
            <p:spPr>
              <a:xfrm rot="16200000">
                <a:off x="6120" y="29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4"/>
          </p:nvPr>
        </p:nvSpPr>
        <p:spPr>
          <a:xfrm>
            <a:off x="685800" y="60199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5"/>
          </p:nvPr>
        </p:nvSpPr>
        <p:spPr>
          <a:xfrm>
            <a:off x="3124080" y="60199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6"/>
          </p:nvPr>
        </p:nvSpPr>
        <p:spPr>
          <a:xfrm>
            <a:off x="6553080" y="60199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2813-6F65-4EAA-85D1-21DCE5DB2B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uti.com.my/Sub/Kl/kuala_lumpur_deer_park.jpg&amp;imgrefurl=http://www.cuti.com.my/Sub/Kl/guide_kuala_lumpur_deer_park.htm&amp;usg=__cuH-IKcjD4vcWZvsmuai5aUYxdI=&amp;h=304&amp;w=388&amp;sz=34&amp;hl=en&amp;start=10&amp;tbnid=_L1wR2YcKyXAwM:&amp;tbnh=96&amp;tbnw=123&amp;prev=/images?q=deer&amp;gbv=2&amp;hl=en" TargetMode="External"/><Relationship Id="rId2" Type="http://schemas.openxmlformats.org/officeDocument/2006/relationships/image" Target="../media/image89.jpeg"/><Relationship Id="rId3" Type="http://schemas.openxmlformats.org/officeDocument/2006/relationships/hyperlink" Target="http://images.google.com/imgres?imgurl=http://www.sixwise.com/images/articles/2006/08/13/bully.gif&amp;imgrefurl=http://www.sixwise.com/newsletters/06/08/13/whether-youre-left-or-right-its-time-to-fight-the-bullies.htm&amp;usg=__pogGuYt3fNirI82SbeL4GXiiRr4=&amp;h=299&amp;w=214&amp;sz=25&amp;hl=en&amp;start=9&amp;tbnid=BQNRBmu5JSYbmM:&amp;tbnh=116&amp;tbnw=83&amp;prev=/images?q=jeer&amp;gbv=2&amp;hl=en" TargetMode="External"/><Relationship Id="rId4" Type="http://schemas.openxmlformats.org/officeDocument/2006/relationships/image" Target="../media/image90.jpeg"/><Relationship Id="rId5" Type="http://schemas.openxmlformats.org/officeDocument/2006/relationships/hyperlink" Target="http://images.google.com/imgres?imgurl=http://www.uam.es/otros/hojavol/hoja8/imagenes08/leer08.jpg&amp;imgrefurl=http://www.uam.es/otros/hojavol/hoja8/leer08.html&amp;usg=__tECVs1gbSnPwXpmCmdJERStjmUo=&amp;h=391&amp;w=610&amp;sz=18&amp;hl=en&amp;start=1&amp;tbnid=bz-WX8scz_f8iM:&amp;tbnh=87&amp;tbnw=136&amp;prev=/images?q=leer&amp;gbv=2&amp;ndsp=20&amp;hl=en&amp;sa=N" TargetMode="External"/><Relationship Id="rId6" Type="http://schemas.openxmlformats.org/officeDocument/2006/relationships/image" Target="../media/image91.jpeg"/><Relationship Id="rId7" Type="http://schemas.openxmlformats.org/officeDocument/2006/relationships/image" Target="../media/image92.jpeg"/><Relationship Id="rId8" Type="http://schemas.openxmlformats.org/officeDocument/2006/relationships/image" Target="../media/image93.jpeg"/><Relationship Id="rId9" Type="http://schemas.openxmlformats.org/officeDocument/2006/relationships/image" Target="../media/image94.jpeg"/><Relationship Id="rId10" Type="http://schemas.openxmlformats.org/officeDocument/2006/relationships/image" Target="../media/image95.jpeg"/><Relationship Id="rId11" Type="http://schemas.openxmlformats.org/officeDocument/2006/relationships/image" Target="../media/image96.jpeg"/><Relationship Id="rId1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image" Target="../media/image99.jpeg"/><Relationship Id="rId3" Type="http://schemas.openxmlformats.org/officeDocument/2006/relationships/image" Target="../media/image100.jpeg"/><Relationship Id="rId4" Type="http://schemas.openxmlformats.org/officeDocument/2006/relationships/image" Target="../media/image101.jpeg"/><Relationship Id="rId5" Type="http://schemas.openxmlformats.org/officeDocument/2006/relationships/image" Target="../media/image102.jpeg"/><Relationship Id="rId6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lobal-b2b-network.com/direct/dbimage/50294677/Service_Cart_W__Two_Drawers.jpg&amp;imgrefurl=http://www.global-b2b-network.com/b2b/17/21/762/storage_carts_and_trolleys.html&amp;usg=__I7RX1V0R-wnZ24kU1ZrihFw5CJ8=&amp;h=360&amp;w=360&amp;sz=22&amp;hl=en&amp;start=7&amp;tbnid=NktdV0iZj9qtXM:&amp;tbnh=121&amp;tbnw=121&amp;prev=/images?q=cart&amp;gbv=2&amp;hl=en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www.wait-till-i.com/stuff/chart-table.png&amp;imgrefurl=http://www.wait-till-i.com/tag/progressive-enhancement/&amp;usg=__cGJZv80EITFD5l-qyRZfjfEGZ3M=&amp;h=536&amp;w=414&amp;sz=21&amp;hl=en&amp;start=7&amp;tbnid=50RwSanPWdBmEM:&amp;tbnh=132&amp;tbnw=102&amp;prev=/images?q=chart&amp;gbv=2&amp;hl=en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m/imgres?imgurl=http://www.dartsuppliesdirect.com/dart.jpg&amp;imgrefurl=http://www.dartsuppliesdirect.com/dartgamemachine.html&amp;usg=__f-gDnAfr397VJivCPod8Fq1jUtc=&amp;h=358&amp;w=400&amp;sz=20&amp;hl=en&amp;start=2&amp;tbnid=lGFZ2ePVIr0N0M:&amp;tbnh=111&amp;tbnw=124&amp;prev=/images?q=dart&amp;gbv=2&amp;hl=en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m/imgres?imgurl=http://img.photobucket.com/albums/v604/kitchenmonkey/Tart-Single.jpg&amp;imgrefurl=http://www.goinggreencandles.com/tart-molds/tart-molds.php&amp;usg=__vw9ptcGtZ6OPc9NIZV483KIiR5s=&amp;h=606&amp;w=800&amp;sz=106&amp;hl=en&amp;start=5&amp;tbnid=GOGKNjnk6x5BLM:&amp;tbnh=108&amp;tbnw=143&amp;prev=/images?q=tart&amp;gbv=2&amp;hl=en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images.google.com/imgres?imgurl=http://www.animalspirits.com/deer.jpg&amp;imgrefurl=http://www.animalspirits.com/index5.html&amp;usg=__IUlcvj8idVvFhW6O73e45z9puFg=&amp;h=446&amp;w=400&amp;sz=41&amp;hl=en&amp;start=8&amp;tbnid=6RzLdwkVCWcjGM:&amp;tbnh=127&amp;tbnw=114&amp;prev=/images?q=hart+deer&amp;gbv=2&amp;hl=en" TargetMode="External"/><Relationship Id="rId10" Type="http://schemas.openxmlformats.org/officeDocument/2006/relationships/image" Target="../media/image7.jpeg"/><Relationship Id="rId11" Type="http://schemas.openxmlformats.org/officeDocument/2006/relationships/hyperlink" Target="http://images.google.com/imgres?imgurl=http://www.exclusivestm.com/wp-content/uploads/2007/07/kwik-e-mart.jpg&amp;imgrefurl=http://www.exclusivestm.com/category/film/&amp;usg=__LZD9KZ-iHMat7DE_ystf_02kdE4=&amp;h=338&amp;w=450&amp;sz=28&amp;hl=en&amp;start=4&amp;tbnid=nm_6nWpjuyy0vM:&amp;tbnh=95&amp;tbnw=127&amp;prev=/images?q=mart&amp;gbv=2&amp;hl=en" TargetMode="External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oilcrop.tamu.edu/photogallery/cornsorghum+/images/corn%2520ears.jpg&amp;imgrefurl=http://soilcrop.tamu.edu/photogallery/cornsorghum+/pages/corn%2520ears.htm&amp;usg=__KKC04uCe6NZu2WbodPQrQbnl80U=&amp;h=1026&amp;w=1284&amp;sz=285&amp;hl=en&amp;start=4&amp;tbnid=i3VCzG8f421EyM:&amp;tbnh=120&amp;tbnw=150&amp;prev=/images?q=corn&amp;gbv=2&amp;hl=en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/imgres?imgurl=http://chnm.gmu.edu/resources/essays/images/EvolutionIntelligentDesignClimateChange/corn_diversity.jpg&amp;imgrefurl=http://chnm.gmu.edu/resources/essays/d/41&amp;usg=__ri5lvbFS9Q_e79zY4UsxMKpNM6k=&amp;h=366&amp;w=550&amp;sz=36&amp;hl=en&amp;start=8&amp;tbnid=dFMbDTHzipzVMM:&amp;tbnh=89&amp;tbnw=133&amp;prev=/images?q=corn&amp;gbv=2&amp;hl=en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google.com/imgres?imgurl=http://www.music.vt.edu/musicdictionary/texth/images/horn.jpg&amp;imgrefurl=http://www.music.vt.edu/musicdictionary/texth/Horn.html&amp;usg=___5yVYnAL_MogiKLHR6WNzsDm0nQ=&amp;h=484&amp;w=405&amp;sz=154&amp;hl=en&amp;start=1&amp;tbnid=SPB6CDXn_Xr7ZM:&amp;tbnh=129&amp;tbnw=108&amp;prev=/images?q=horn&amp;gbv=2&amp;hl=en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images.google.com/imgres?imgurl=http://www.photoshopmonster.com/tutorial/Photoshop-torn-punch-hole-paper/Photoshop-torn-punch-hole-paper.jpg&amp;imgrefurl=http://www.photoshopmonster.com/Free-photoshop-tutorial-learn-how-to-create-torn-paper-and-punch-a-hole_78.html&amp;usg=__GzuYH6ya-or_XL20SKDfZjrIYaU=&amp;h=377&amp;w=357&amp;sz=10&amp;hl=en&amp;start=4&amp;tbnid=yxvgoqtVcGzxgM:&amp;tbnh=122&amp;tbnw=116&amp;prev=/images?q=torn&amp;gbv=2&amp;hl=en" TargetMode="External"/><Relationship Id="rId8" Type="http://schemas.openxmlformats.org/officeDocument/2006/relationships/image" Target="../media/image12.jpeg"/><Relationship Id="rId9" Type="http://schemas.openxmlformats.org/officeDocument/2006/relationships/hyperlink" Target="http://images.google.com/imgres?imgurl=http://www.mooseyscountrygarden.com/rose-picture-gallery/rose-thorn.jpg&amp;imgrefurl=http://innerstitch.blogspot.com/2008/06/hunt-for-wild-boojum-is-it-thorny-or.html&amp;usg=__5zFdofpHgmwYF7fUxdw98BQiIQE=&amp;h=768&amp;w=1024&amp;sz=120&amp;hl=en&amp;start=2&amp;tbnid=n4lhcH4A1wJW-M:&amp;tbnh=113&amp;tbnw=150&amp;prev=/images?q=thorn&amp;gbv=2&amp;hl=en" TargetMode="External"/><Relationship Id="rId10" Type="http://schemas.openxmlformats.org/officeDocument/2006/relationships/image" Target="../media/image13.jpeg"/><Relationship Id="rId11" Type="http://schemas.openxmlformats.org/officeDocument/2006/relationships/hyperlink" Target="http://images.google.com/imgres?imgurl=http://msnbcmedia3.msn.com/j/msnbc/Components/Photos/060201/060201_bernanke_sworn_hmed_7a.hmedium.jpg&amp;imgrefurl=http://www.msnbc.msn.com/id/11127887&amp;usg=__b9os9sX1P7Aw9BwiNIKlcPE-B7M=&amp;h=273&amp;w=350&amp;sz=18&amp;hl=en&amp;start=9&amp;tbnid=UCUsla4Wrip9jM:&amp;tbnh=94&amp;tbnw=120&amp;prev=/images?q=sworn&amp;gbv=2&amp;hl=en" TargetMode="External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Class%20Tools/Quilt%20Story.htm" TargetMode="External"/><Relationship Id="rId2" Type="http://schemas.openxmlformats.org/officeDocument/2006/relationships/hyperlink" Target="http://www.scottsboro.org/~flewis/SF%20Reading%20Street/spellmaster/Quilt%20Story/jigword2.html" TargetMode="External"/><Relationship Id="rId3" Type="http://schemas.openxmlformats.org/officeDocument/2006/relationships/hyperlink" Target="http://www.scottsboro.org/~flewis/SF%20Reading%20Street/spellmaster/Quilt%20Story/matchword2.html" TargetMode="External"/><Relationship Id="rId4" Type="http://schemas.openxmlformats.org/officeDocument/2006/relationships/hyperlink" Target="http://www.scottsboro.org/~flewis/SF%20Reading%20Street/spellmaster/Quilt%20Story/speedword2.html" TargetMode="External"/><Relationship Id="rId5" Type="http://schemas.openxmlformats.org/officeDocument/2006/relationships/hyperlink" Target="http://www.scottsboro.org/~flewis/SF%20Reading%20Street/spellmaster/Quilt%20Story/speedword2.html" TargetMode="External"/><Relationship Id="rId6" Type="http://schemas.openxmlformats.org/officeDocument/2006/relationships/hyperlink" Target="http://www.scottsboro.org/~flewis/SF%20Reading%20Street/spellmaster/Quilt%20Story/wordweb.html" TargetMode="External"/><Relationship Id="rId7" Type="http://schemas.openxmlformats.org/officeDocument/2006/relationships/hyperlink" Target="http://www.spellingcity.com/index.php?option=com_spellcity&amp;task=viewList&amp;listId=825557" TargetMode="External"/><Relationship Id="rId8" Type="http://schemas.openxmlformats.org/officeDocument/2006/relationships/hyperlink" Target="http://www.spellingcity.com/index.php?option=com_spellcity&amp;task=viewList&amp;listId=825561" TargetMode="External"/><Relationship Id="rId9" Type="http://schemas.openxmlformats.org/officeDocument/2006/relationships/hyperlink" Target="http://www.scottsboro.org/~flewis/SF%20Reading%20Street/spellmaster/Quilt%20Story%20Spelling%20Words/speedword2.html" TargetMode="External"/><Relationship Id="rId10" Type="http://schemas.openxmlformats.org/officeDocument/2006/relationships/hyperlink" Target="http://www.scottsboro.org/~flewis/SF%20Reading%20Street/spellmaster/Quilt%20Story%20Spelling%20Words/wordweb.html" TargetMode="External"/><Relationship Id="rId11" Type="http://schemas.openxmlformats.org/officeDocument/2006/relationships/hyperlink" Target="http://www.quia.com/hm/316897.html" TargetMode="External"/><Relationship Id="rId12" Type="http://schemas.openxmlformats.org/officeDocument/2006/relationships/hyperlink" Target="http://www.spellingcity.com/index.php?option=com_spellcity&amp;Itemid=122&amp;task=viewList&amp;listId=354265" TargetMode="External"/><Relationship Id="rId13" Type="http://schemas.openxmlformats.org/officeDocument/2006/relationships/hyperlink" Target="http://www.scottsboro.org/~flewis/SF%20Reading%20Street/Hot%20Potatoes/Quilt_Story.htm" TargetMode="External"/><Relationship Id="rId14" Type="http://schemas.openxmlformats.org/officeDocument/2006/relationships/hyperlink" Target="http://www.scottsboro.org/~flewis/SF%20Reading%20Street/Hot%20Potatoes/Quilt_Story.htm" TargetMode="External"/><Relationship Id="rId15" Type="http://schemas.openxmlformats.org/officeDocument/2006/relationships/hyperlink" Target="http://www.spellingcity.com/index.php?option=com_spellcity&amp;task=viewList&amp;listId=825570" TargetMode="External"/><Relationship Id="rId1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eeuni.edu.ge/shortprograms/blog/wp-content/uploads/2008/12/fear.gif&amp;imgrefurl=http://www.freeuni.edu.ge/shortprograms/blog/&amp;usg=__g5Xrvx7gjvJQ29blxZL60uUA9iQ=&amp;h=592&amp;w=770&amp;sz=26&amp;hl=en&amp;start=3&amp;tbnid=m6IhTnRSlDxbgM:&amp;tbnh=109&amp;tbnw=142&amp;prev=/images?q=fear&amp;gbv=2&amp;hl=en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google.com/imgres?imgurl=http://img.directindustry.com/images_di/photo-g/cylindrical-gear-378049.jpg&amp;imgrefurl=http://www.directindustry.com/prod/nippon-gear/cylindrical-gear-25925-378049.html&amp;usg=__wBzOXT8_jyUkVUQ1PoqqPPQlo7c=&amp;h=800&amp;w=1000&amp;sz=80&amp;hl=en&amp;start=30&amp;tbnid=LGGgLaEVj6ej_M:&amp;tbnh=119&amp;tbnw=149&amp;prev=/images?q=gear&amp;gbv=2&amp;ndsp=20&amp;hl=en&amp;sa=N&amp;start=20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google.com/imgres?imgurl=http://www.noiseaddicts.com/wp-content/uploads/2009/02/hearing-loss.jpg&amp;imgrefurl=http://www.noiseaddicts.com/2009/02/hearing-test-hear-like-teenager/&amp;usg=__OFtAZaW1WQt5ih4iJSFGKR51SCw=&amp;h=382&amp;w=319&amp;sz=36&amp;hl=en&amp;start=7&amp;tbnid=pIzGVNZvsr0HCM:&amp;tbnh=123&amp;tbnw=103&amp;prev=/images?q=hear&amp;gbv=2&amp;hl=en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images.google.com/imgres?imgurl=http://gallery.hd.org/_exhibits/natural-science/_more2003/_more09/elephant-rear-view-and-dung-on-road-bordered-by-bushes-in-Addo-Park-Eastern-Cape-South-Africa-WL.jpg&amp;imgrefurl=http://gallery.hd.org/_c/natural-science/_more2003/_more09/elephant-rear-view-and-dung-on-road-bordered-by-bushes-in-Addo-Park-Eastern-Cape-South-Africa-WL.jpg.html&amp;usg=__hoSxrQhLejoCB7jrcWPl9jYkLBk=&amp;h=1840&amp;w=1232&amp;sz=785&amp;hl=en&amp;start=5&amp;tbnid=uxTDjllZGOA4IM:&amp;tbnh=150&amp;tbnw=100&amp;prev=/images?q=rear&amp;gbv=2&amp;hl=en" TargetMode="External"/><Relationship Id="rId8" Type="http://schemas.openxmlformats.org/officeDocument/2006/relationships/image" Target="../media/image20.jpeg"/><Relationship Id="rId9" Type="http://schemas.openxmlformats.org/officeDocument/2006/relationships/hyperlink" Target="http://images.google.com/imgres?imgurl=http://www.filtsai.com/cooking/blue_stuffed_tenderloin/sear_02.jpg&amp;imgrefurl=http://www.filtsai.com/cooking/blue_stuffed_tenderloin/&amp;usg=__W1fWvj8oU7Ly_OAxMkHWNDNluew=&amp;h=600&amp;w=800&amp;sz=143&amp;hl=en&amp;start=2&amp;tbnid=CNTGmzcpCDfwUM:&amp;tbnh=107&amp;tbnw=143&amp;prev=/images?q=sear&amp;gbv=2&amp;hl=en" TargetMode="External"/><Relationship Id="rId10" Type="http://schemas.openxmlformats.org/officeDocument/2006/relationships/image" Target="../media/image21.jpeg"/><Relationship Id="rId11" Type="http://schemas.openxmlformats.org/officeDocument/2006/relationships/hyperlink" Target="http://images.google.com/imgres?imgurl=http://i92.photobucket.com/albums/l14/bigwiggly/Tear.jpg&amp;imgrefurl=http://www.sodahead.com/question/253632/true-story/&amp;usg=__yubxyn6OkhebXso5QCzSVkV9jW8=&amp;h=400&amp;w=368&amp;sz=41&amp;hl=en&amp;start=1&amp;tbnid=ZgvEW7Qn9MvjvM:&amp;tbnh=124&amp;tbnw=114&amp;prev=/images?q=tear%2527&amp;gbv=2&amp;hl=en" TargetMode="External"/><Relationship Id="rId12" Type="http://schemas.openxmlformats.org/officeDocument/2006/relationships/image" Target="../media/image22.jpeg"/><Relationship Id="rId13" Type="http://schemas.openxmlformats.org/officeDocument/2006/relationships/hyperlink" Target="http://images.google.com/imgres?imgurl=http://www.expertalpacashearing.com/images/electric_shear.jpg&amp;imgrefurl=http://www.expertalpacashearing.com/details.htm&amp;usg=__b3Wa7L_m0KdIDjqscO7hye8WDDQ=&amp;h=480&amp;w=640&amp;sz=40&amp;hl=en&amp;start=8&amp;tbnid=Ud0GQ0uX3jrDMM:&amp;tbnh=103&amp;tbnw=137&amp;prev=/images?q=shear&amp;gbv=2&amp;hl=en" TargetMode="External"/><Relationship Id="rId14" Type="http://schemas.openxmlformats.org/officeDocument/2006/relationships/image" Target="../media/image23.jpeg"/><Relationship Id="rId15" Type="http://schemas.openxmlformats.org/officeDocument/2006/relationships/hyperlink" Target="http://images.google.com/imgres?imgurl=http://earth911.com/wp-content/uploads/2008/10/clear-glass-jar.jpg&amp;imgrefurl=http://earth911.com/glass/clear-glass/&amp;usg=___D4t_IYkSikAxbvD3slhVlxgG9k=&amp;h=300&amp;w=300&amp;sz=6&amp;hl=en&amp;start=12&amp;tbnid=oqc9HjI7OhWWlM:&amp;tbnh=116&amp;tbnw=116&amp;prev=/images?q=clear&amp;gbv=2&amp;hl=en" TargetMode="External"/><Relationship Id="rId16" Type="http://schemas.openxmlformats.org/officeDocument/2006/relationships/image" Target="../media/image24.jpeg"/><Relationship Id="rId17" Type="http://schemas.openxmlformats.org/officeDocument/2006/relationships/hyperlink" Target="http://images.google.com/imgres?imgurl=http://www.goravani.com/art/Copper_spear_reg.jpg&amp;imgrefurl=http://www.goravani.com/art/Copper_spear.html&amp;usg=__d_VVPrRMXav3_37Hazgk3rlWUo8=&amp;h=1578&amp;w=432&amp;sz=66&amp;hl=en&amp;start=11&amp;tbnid=wTXc6fqpKnDMBM:&amp;tbnh=150&amp;tbnw=41&amp;prev=/images?q=spear&amp;gbv=2&amp;hl=en" TargetMode="External"/><Relationship Id="rId18" Type="http://schemas.openxmlformats.org/officeDocument/2006/relationships/image" Target="../media/image25.jpeg"/><Relationship Id="rId19" Type="http://schemas.openxmlformats.org/officeDocument/2006/relationships/hyperlink" Target="http://images.google.com/imgres?imgurl=http://upload.wikimedia.org/wikipedia/commons/d/de/NCI_cream_cheese_bagel.jpg&amp;imgrefurl=http://holyname.wordpress.com/2008/05/15/toasted-bagel-with-a-smear/&amp;usg=__tN35qNMkt79EKwyPTArJILqm2gg=&amp;h=392&amp;w=392&amp;sz=95&amp;hl=en&amp;start=33&amp;tbnid=NpytkPVRWmg1NM:&amp;tbnh=123&amp;tbnw=123&amp;prev=/images?q=smear&amp;gbv=2&amp;ndsp=20&amp;hl=en&amp;sa=N&amp;start=20" TargetMode="External"/><Relationship Id="rId20" Type="http://schemas.openxmlformats.org/officeDocument/2006/relationships/image" Target="../media/image26.jpeg"/><Relationship Id="rId21" Type="http://schemas.openxmlformats.org/officeDocument/2006/relationships/hyperlink" Target="http://images.google.com/imgres?imgurl=http://upload.wikimedia.org/wikipedia/commons/b/be/WorldCalendar.png&amp;imgrefurl=http://en.wikipedia.org/wiki/World_Calendar&amp;usg=__7RBYv-bJpXXQwjKD2SdONLxHf9Y=&amp;h=546&amp;w=508&amp;sz=25&amp;hl=en&amp;start=3&amp;tbnid=rQ2Yf0t_gGH_bM:&amp;tbnh=133&amp;tbnw=124&amp;prev=/images?q=calendar&amp;gbv=2&amp;hl=en" TargetMode="External"/><Relationship Id="rId22" Type="http://schemas.openxmlformats.org/officeDocument/2006/relationships/image" Target="../media/image27.jpeg"/><Relationship Id="rId2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76.xml"/><Relationship Id="rId3" Type="http://schemas.openxmlformats.org/officeDocument/2006/relationships/slide" Target="slide77.xml"/><Relationship Id="rId4" Type="http://schemas.openxmlformats.org/officeDocument/2006/relationships/slide" Target="slide78.xml"/><Relationship Id="rId5" Type="http://schemas.openxmlformats.org/officeDocument/2006/relationships/slide" Target="slide84.xml"/><Relationship Id="rId6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image" Target="../media/image28.png"/><Relationship Id="rId3" Type="http://schemas.openxmlformats.org/officeDocument/2006/relationships/hyperlink" Target="http://images.google.com/imgres?imgurl=http://www.singingquilter.com/Star%2520and%2520Plume%2520quilt%2520cropped.jpg&amp;imgrefurl=http://www.singingquilter.com/myquilts.htm&amp;usg=__b3vAuXrBJewVdiwvQ3rKbVtXWlg=&amp;h=866&amp;w=635&amp;sz=688&amp;hl=en&amp;start=2&amp;tbnid=9DbFwmcLs7TkSM:&amp;tbnh=145&amp;tbnw=106&amp;prev=/images?q=quilt&amp;gbv=2&amp;hl=en&amp;sa=G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images.google.com/imgres?imgurl=http://www.swmpratt.com/images/Nf11quilt.jpg&amp;imgrefurl=http://www.swmpratt.com/quiltsinprogress.htm&amp;usg=__qYCVfy1o0oSuBfpVTAR0_IVxJBU=&amp;h=903&amp;w=897&amp;sz=193&amp;hl=en&amp;start=4&amp;tbnid=c2N6nbstZsXVFM:&amp;tbnh=147&amp;tbnw=146&amp;prev=/images?q=quilt&amp;gbv=2&amp;hl=en&amp;sa=G" TargetMode="External"/><Relationship Id="rId6" Type="http://schemas.openxmlformats.org/officeDocument/2006/relationships/image" Target="../media/image30.jpeg"/><Relationship Id="rId7" Type="http://schemas.openxmlformats.org/officeDocument/2006/relationships/hyperlink" Target="http://images.google.com/imgres?imgurl=http://www.lazygirldesigns.com/blog/wp-content/uploads/2007/06/Twilight%2520Quilt%25202.jpg&amp;imgrefurl=http://www.lazygirldesigns.com/blog/?p=655&amp;usg=__3Jveodig7ytvdc9YIiLXbV79tis=&amp;h=638&amp;w=600&amp;sz=176&amp;hl=en&amp;start=9&amp;tbnid=BtNpos1DttUV5M:&amp;tbnh=137&amp;tbnw=129&amp;prev=/images?q=quilt&amp;gbv=2&amp;hl=en&amp;sa=G" TargetMode="External"/><Relationship Id="rId8" Type="http://schemas.openxmlformats.org/officeDocument/2006/relationships/image" Target="../media/image31.jpeg"/><Relationship Id="rId9" Type="http://schemas.openxmlformats.org/officeDocument/2006/relationships/hyperlink" Target="http://images.google.com/imgres?imgurl=http://www.babybebop.com/images/quilt.jpg&amp;imgrefurl=http://www.babybebop.com/quilt.html&amp;usg=__tzWc6e4m0xIXTv89XMFPIdRu5Pg=&amp;h=370&amp;w=500&amp;sz=46&amp;hl=en&amp;start=15&amp;tbnid=Q6E6HLvQA2jABM:&amp;tbnh=96&amp;tbnw=130&amp;prev=/images?q=quilt&amp;gbv=2&amp;hl=en&amp;sa=G" TargetMode="External"/><Relationship Id="rId10" Type="http://schemas.openxmlformats.org/officeDocument/2006/relationships/image" Target="../media/image32.jpeg"/><Relationship Id="rId11" Type="http://schemas.openxmlformats.org/officeDocument/2006/relationships/hyperlink" Target="http://images.google.com/imgres?imgurl=http://www.janesassaman.com/core-pages/exoticquiltgallery/exoticquiltimages/TreeQuilt-cmyk.jpg&amp;imgrefurl=http://www.janesassaman.com/special-pages/pre-fall2003/treeoflife/treeoflifedownload.html&amp;usg=__gFEC5Fc6ld1rl-eb8neR-Nvr7xs=&amp;h=587&amp;w=360&amp;sz=102&amp;hl=en&amp;start=17&amp;tbnid=mBTc3lkHhZqZVM:&amp;tbnh=135&amp;tbnw=83&amp;prev=/images?q=quilt&amp;gbv=2&amp;hl=en&amp;sa=G" TargetMode="External"/><Relationship Id="rId12" Type="http://schemas.openxmlformats.org/officeDocument/2006/relationships/image" Target="../media/image33.jpeg"/><Relationship Id="rId13" Type="http://schemas.openxmlformats.org/officeDocument/2006/relationships/hyperlink" Target="http://images.google.com/imgres?imgurl=http://upload.wikimedia.org/wikipedia/commons/thumb/7/77/Crazy_Quilt_(solitaire).jpg/500px-Crazy_Quilt_(solitaire).jpg&amp;imgrefurl=http://en.wikipedia.org/wiki/Crazy_Quilt_(solitaire)&amp;usg=__WPE8YI6PmPRUAQrmQXogH4bd17g=&amp;h=514&amp;w=500&amp;sz=95&amp;hl=en&amp;start=16&amp;tbnid=URGoMeU-0aXMuM:&amp;tbnh=131&amp;tbnw=127&amp;prev=/images?q=quilt&amp;gbv=2&amp;hl=en&amp;sa=G" TargetMode="External"/><Relationship Id="rId14" Type="http://schemas.openxmlformats.org/officeDocument/2006/relationships/image" Target="../media/image34.jpeg"/><Relationship Id="rId1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84.xml"/><Relationship Id="rId2" Type="http://schemas.openxmlformats.org/officeDocument/2006/relationships/image" Target="../media/image28.png"/><Relationship Id="rId3" Type="http://schemas.openxmlformats.org/officeDocument/2006/relationships/hyperlink" Target="http://images.google.com/imgres?imgurl=http://www.moritzdesigns.com/quilting/quilt2.GIF&amp;imgrefurl=http://www.moritzdesigns.com/quilting/frame.html&amp;usg=__loFSROn_sVpi6gCLolRwB2iIEkk=&amp;h=273&amp;w=301&amp;sz=31&amp;hl=en&amp;start=5&amp;tbnid=MTobNlDxI6pYVM:&amp;tbnh=105&amp;tbnw=116&amp;prev=/images?q=quilt+frames&amp;gbv=2&amp;hl=en" TargetMode="External"/><Relationship Id="rId4" Type="http://schemas.openxmlformats.org/officeDocument/2006/relationships/image" Target="../media/image35.jpeg"/><Relationship Id="rId5" Type="http://schemas.openxmlformats.org/officeDocument/2006/relationships/hyperlink" Target="http://images.google.com/imgres?imgurl=https://secure.mennonite.net/.cWtools/download.php/mnF=MattNanHQUILTS.JPG,mnOD=Pictures,mnOD=My%2520Documents,dc=salemmennonite,dc=oh,dc=us,dc=mennonite,dc=net&amp;imgrefurl=http://salemmennonite.oh.us.mennonite.net/In_Our_Church/QUILTS__ETC.&amp;usg=__NXkr5X9kdlWrbDpxI3wur_2fO38=&amp;h=619&amp;w=982&amp;sz=148&amp;hl=en&amp;start=9&amp;tbnid=Fpi17-7tkXTd7M:&amp;tbnh=94&amp;tbnw=149&amp;prev=/images?q=quilt+frames&amp;gbv=2&amp;hl=en" TargetMode="External"/><Relationship Id="rId6" Type="http://schemas.openxmlformats.org/officeDocument/2006/relationships/image" Target="../media/image36.jpeg"/><Relationship Id="rId7" Type="http://schemas.openxmlformats.org/officeDocument/2006/relationships/hyperlink" Target="http://images.google.com/imgres?imgurl=http://quilts-frames-racks.com/db2/00147/quilts-frames-racks.com/_uimages/BabySize.jpg&amp;imgrefurl=http://quilts-frames-racks.com/_wsn/page3.html&amp;usg=__pBFmp_uuKN8q65qMSitYuknp-2E=&amp;h=480&amp;w=640&amp;sz=73&amp;hl=en&amp;start=10&amp;tbnid=Deh1zmPhmDOC9M:&amp;tbnh=103&amp;tbnw=137&amp;prev=/images?q=quilt+frames&amp;gbv=2&amp;hl=en" TargetMode="External"/><Relationship Id="rId8" Type="http://schemas.openxmlformats.org/officeDocument/2006/relationships/image" Target="../media/image37.jpeg"/><Relationship Id="rId9" Type="http://schemas.openxmlformats.org/officeDocument/2006/relationships/hyperlink" Target="http://images.google.com/imgres?imgurl=http://www.moritzdesigns.com/quilting/qframefront.jpg&amp;imgrefurl=http://www.moritzdesigns.com/quilting/frame.html&amp;usg=__ANrlKzOJLIADeuEaC7OsG2B_000=&amp;h=281&amp;w=401&amp;sz=77&amp;hl=en&amp;start=27&amp;tbnid=Uv9CTo-qUY_PlM:&amp;tbnh=87&amp;tbnw=124&amp;prev=/images?q=quilt+frames&amp;start=20&amp;gbv=2&amp;ndsp=20&amp;hl=en&amp;sa=N" TargetMode="External"/><Relationship Id="rId10" Type="http://schemas.openxmlformats.org/officeDocument/2006/relationships/image" Target="../media/image38.jpeg"/><Relationship Id="rId11" Type="http://schemas.openxmlformats.org/officeDocument/2006/relationships/hyperlink" Target="http://images.google.com/imgres?imgurl=http://www.rquiltingframes.com/images/quilframe1.jpg&amp;imgrefurl=http://www.rquiltingframes.com/&amp;usg=__IIAF5q1v20EEMn9fPm5SsHC8LPY=&amp;h=321&amp;w=460&amp;sz=27&amp;hl=en&amp;start=60&amp;tbnid=DqdFe6y_CVvvOM:&amp;tbnh=89&amp;tbnw=128&amp;prev=/images?q=quilt+frames&amp;start=40&amp;gbv=2&amp;ndsp=20&amp;hl=en&amp;sa=N" TargetMode="External"/><Relationship Id="rId12" Type="http://schemas.openxmlformats.org/officeDocument/2006/relationships/image" Target="../media/image39.jpeg"/><Relationship Id="rId13" Type="http://schemas.openxmlformats.org/officeDocument/2006/relationships/hyperlink" Target="http://images.google.com/imgres?imgurl=http://www.mentorscenter.com/quilt_lab/assets/int-1-lg-2.jpg&amp;imgrefurl=http://www.mentorscenter.com/quilt_lab/sub_pages/quilt_frames.htm&amp;usg=__4qUIQh2RxQXHH8Zj83bcLFQcJoQ=&amp;h=500&amp;w=500&amp;sz=18&amp;hl=en&amp;start=62&amp;tbnid=RttB1XBn5k6QJM:&amp;tbnh=130&amp;tbnw=130&amp;prev=/images?q=quilt+frames&amp;start=60&amp;gbv=2&amp;ndsp=20&amp;hl=en&amp;sa=N" TargetMode="External"/><Relationship Id="rId14" Type="http://schemas.openxmlformats.org/officeDocument/2006/relationships/image" Target="../media/image40.jpeg"/><Relationship Id="rId1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image" Target="../media/image28.png"/><Relationship Id="rId3" Type="http://schemas.openxmlformats.org/officeDocument/2006/relationships/hyperlink" Target="http://images.google.com/imgres?imgurl=http://www.littlemotors.org/antifreeze/archives/images/wrapped.jpg&amp;imgrefurl=http://www.littlemotors.org/antifreeze/archives/2004/10/&amp;usg=__PIVvvGqmRtkS7zPPc2_aUhRfST0=&amp;h=375&amp;w=500&amp;sz=50&amp;hl=en&amp;start=1&amp;tbnid=d8aSAa2VlHbdJM:&amp;tbnh=98&amp;tbnw=130&amp;prev=/images?q=wrapped&amp;gbv=2&amp;hl=en" TargetMode="External"/><Relationship Id="rId4" Type="http://schemas.openxmlformats.org/officeDocument/2006/relationships/image" Target="../media/image41.jpeg"/><Relationship Id="rId5" Type="http://schemas.openxmlformats.org/officeDocument/2006/relationships/hyperlink" Target="http://images.google.com/imgres?imgurl=http://www.cardsunlimited.com/largeimage/WrappedChocs.jpg&amp;imgrefurl=http://www.cardsunlimited.com/bulkview.php?id=wrapped_chocolates&amp;usg=__Dpip8shX4QAfPdMD-e-5yUCklKo=&amp;h=383&amp;w=383&amp;sz=66&amp;hl=en&amp;start=5&amp;tbnid=XPYZKlwLyzbT4M:&amp;tbnh=123&amp;tbnw=123&amp;prev=/images?q=wrapped&amp;gbv=2&amp;hl=en" TargetMode="External"/><Relationship Id="rId6" Type="http://schemas.openxmlformats.org/officeDocument/2006/relationships/image" Target="../media/image42.jpeg"/><Relationship Id="rId7" Type="http://schemas.openxmlformats.org/officeDocument/2006/relationships/hyperlink" Target="http://images.google.com/imgres?imgurl=http://hollys-handcrafts.com/images/wrapped_basket_lg.jpg&amp;imgrefurl=http://hollys-handcrafts.com/wrapped_basket.htm&amp;usg=__g0wvR9BVsIIjBVNJ86DUXNXBCrQ=&amp;h=500&amp;w=375&amp;sz=45&amp;hl=en&amp;start=6&amp;tbnid=dElHB_fJp4hiDM:&amp;tbnh=130&amp;tbnw=98&amp;prev=/images?q=wrapped&amp;gbv=2&amp;hl=en" TargetMode="External"/><Relationship Id="rId8" Type="http://schemas.openxmlformats.org/officeDocument/2006/relationships/image" Target="../media/image43.jpeg"/><Relationship Id="rId9" Type="http://schemas.openxmlformats.org/officeDocument/2006/relationships/hyperlink" Target="http://images.google.com/imgres?imgurl=http://www.artshole.co.uk/arts/artists/other/Nadine%2520Bowler/A6-Wrapped-Spiral-2004-H25.jpg&amp;imgrefurl=http://www.artshole.co.uk/nadinewarden.htm&amp;usg=__3_O43JCM1x4FoC6gryySttQ8h2E=&amp;h=600&amp;w=896&amp;sz=52&amp;hl=en&amp;start=14&amp;tbnid=PXsq877uwn1qGM:&amp;tbnh=98&amp;tbnw=146&amp;prev=/images?q=wrapped&amp;gbv=2&amp;hl=en" TargetMode="External"/><Relationship Id="rId10" Type="http://schemas.openxmlformats.org/officeDocument/2006/relationships/image" Target="../media/image44.jpeg"/><Relationship Id="rId11" Type="http://schemas.openxmlformats.org/officeDocument/2006/relationships/hyperlink" Target="http://images.google.com/imgres?imgurl=http://www.old-picture.com/indians/pictures/Navaho-Wrapped-in-Blanket.jpg&amp;imgrefurl=http://www.old-picture.com/indians/Navaho-Wrapped-in-Blanket.htm&amp;usg=__JI-fsXSV-wVaTTHUNFRLtqzH5G0=&amp;h=831&amp;w=600&amp;sz=51&amp;hl=en&amp;start=20&amp;tbnid=nityvd3EmjeqZM:&amp;tbnh=144&amp;tbnw=104&amp;prev=/images?q=wrapped&amp;gbv=2&amp;hl=en" TargetMode="External"/><Relationship Id="rId12" Type="http://schemas.openxmlformats.org/officeDocument/2006/relationships/image" Target="../media/image45.jpeg"/><Relationship Id="rId13" Type="http://schemas.openxmlformats.org/officeDocument/2006/relationships/hyperlink" Target="http://images.google.com/imgres?imgurl=http://pdudley.home.isp-direct.com/Canoe%2520shipping/seat%2520backs%2520wrapped.JPG&amp;imgrefurl=http://pdudley.home.isp-direct.com/&amp;usg=__c1aNTrkFO_1O3L4YEov48oRttnY=&amp;h=1932&amp;w=2576&amp;sz=837&amp;hl=en&amp;start=28&amp;tbnid=XL_11pKFpq2cQM:&amp;tbnh=113&amp;tbnw=150&amp;prev=/images?q=wrapped&amp;start=20&amp;gbv=2&amp;ndsp=20&amp;hl=en&amp;sa=N" TargetMode="External"/><Relationship Id="rId14" Type="http://schemas.openxmlformats.org/officeDocument/2006/relationships/image" Target="../media/image46.jpeg"/><Relationship Id="rId1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image" Target="../media/image28.png"/><Relationship Id="rId3" Type="http://schemas.openxmlformats.org/officeDocument/2006/relationships/hyperlink" Target="http://images.google.com/imgres?imgurl=http://www.nearseanaturals.com/thumbs/oc-cotton-stuffing-bulk.jpg&amp;imgrefurl=http://www.nearseanaturals.com/item.php?id=2041&amp;usg=__GwhGMT19E9xiiRu_MvJ5kBjNbKU=&amp;h=329&amp;w=456&amp;sz=16&amp;hl=en&amp;start=26&amp;tbnid=gJDTNJnJPzf0WM:&amp;tbnh=92&amp;tbnw=128&amp;prev=/images?q=stuffing&amp;start=20&amp;gbv=2&amp;ndsp=20&amp;hl=en&amp;sa=N" TargetMode="External"/><Relationship Id="rId4" Type="http://schemas.openxmlformats.org/officeDocument/2006/relationships/image" Target="../media/image47.jpeg"/><Relationship Id="rId5" Type="http://schemas.openxmlformats.org/officeDocument/2006/relationships/hyperlink" Target="http://images.google.com/imgres?imgurl=http://biscuitshouse.typepad.com/biscuits_house/images/2007/06/03/stuffing.jpg&amp;imgrefurl=http://biscuitshouse.typepad.com/biscuits_house/amigurumi/&amp;usg=__Yhu8q0i5c5IpbE6izMM2a_dtGro=&amp;h=290&amp;w=400&amp;sz=36&amp;hl=en&amp;start=44&amp;tbnid=0ENJut9PdX4yyM:&amp;tbnh=90&amp;tbnw=124&amp;prev=/images?q=stuffing&amp;start=40&amp;gbv=2&amp;ndsp=20&amp;hl=en&amp;sa=N" TargetMode="External"/><Relationship Id="rId6" Type="http://schemas.openxmlformats.org/officeDocument/2006/relationships/image" Target="../media/image48.jpeg"/><Relationship Id="rId7" Type="http://schemas.openxmlformats.org/officeDocument/2006/relationships/hyperlink" Target="http://images.google.com/imgres?imgurl=http://www.techspedia.com/wp-content/plugins/wp-o-matic/cache/c20b8_beaver-stuffing-kit.jpg&amp;imgrefurl=http://www.techspedia.com/2008/06/15/last-minute-gadget-gifts-for-rich-dads-fun-dads-and-deadbeat-dads-thank-giz-its-friday/&amp;usg=__v8V-8w1tvqb8fBDRbECurI7NkM4=&amp;h=450&amp;w=450&amp;sz=40&amp;hl=en&amp;start=85&amp;tbnid=GO8xjShek3GTTM:&amp;tbnh=127&amp;tbnw=127&amp;prev=/images?q=stuffing&amp;start=80&amp;gbv=2&amp;ndsp=20&amp;hl=en&amp;sa=N" TargetMode="External"/><Relationship Id="rId8" Type="http://schemas.openxmlformats.org/officeDocument/2006/relationships/image" Target="../media/image49.jpeg"/><Relationship Id="rId9" Type="http://schemas.openxmlformats.org/officeDocument/2006/relationships/hyperlink" Target="http://images.google.com/imgres?imgurl=http://nerdapproved.com/wp-content/uploads/2008/06/beaver-stuffing-kit-2.jpg&amp;imgrefurl=http://nerdapproved.com/toys/beaver-stuffing-kit-satsify-your-urges/&amp;usg=__Q4zKkjxs3gjd-am3xegnqch_KVw=&amp;h=450&amp;w=450&amp;sz=38&amp;hl=en&amp;start=89&amp;tbnid=ltF6mVMFB_y5sM:&amp;tbnh=127&amp;tbnw=127&amp;prev=/images?q=stuffing&amp;start=80&amp;gbv=2&amp;ndsp=20&amp;hl=en&amp;sa=N" TargetMode="External"/><Relationship Id="rId10" Type="http://schemas.openxmlformats.org/officeDocument/2006/relationships/image" Target="../media/image50.jpeg"/><Relationship Id="rId11" Type="http://schemas.openxmlformats.org/officeDocument/2006/relationships/hyperlink" Target="http://images.google.com/imgres?imgurl=http://www.polybeads.co.uk/ebayphotos/stuffing3a.jpg&amp;imgrefurl=http://cgi.ebay.co.uk/Toy-Stuffing-Super-Soft-Polyester-Fibre-Filling-2-KILOs_W0QQitemZ120345236974QQihZ002QQcategoryZ75576QQcmdZViewItem&amp;usg=__PGrk0pb8VT9CCJ0FoOZj46W0C0o=&amp;h=300&amp;w=400&amp;sz=8&amp;hl=en&amp;start=227&amp;tbnid=55XeELwXloMSEM:&amp;tbnh=93&amp;tbnw=124&amp;prev=/images?q=stuffing&amp;start=220&amp;gbv=2&amp;ndsp=20&amp;hl=en&amp;sa=N" TargetMode="External"/><Relationship Id="rId12" Type="http://schemas.openxmlformats.org/officeDocument/2006/relationships/image" Target="../media/image51.jpeg"/><Relationship Id="rId13" Type="http://schemas.openxmlformats.org/officeDocument/2006/relationships/hyperlink" Target="http://images.google.com/imgres?imgurl=http://www.alliedkenco.com/catalog/images/TUBE_STUFFING_LARGE-22-32.jpg&amp;imgrefurl=http://www.alliedkenco.com/catalog/index.php?cPath=22_112&amp;usg=__vgqWmFusWoj7_jUb7p_uGzIXX4Y=&amp;h=400&amp;w=400&amp;sz=58&amp;hl=en&amp;start=229&amp;tbnid=uJnzi23n3HH7hM:&amp;tbnh=124&amp;tbnw=124&amp;prev=/images?q=stuffing&amp;start=220&amp;gbv=2&amp;ndsp=20&amp;hl=en&amp;sa=N" TargetMode="External"/><Relationship Id="rId14" Type="http://schemas.openxmlformats.org/officeDocument/2006/relationships/image" Target="../media/image52.jpeg"/><Relationship Id="rId1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image" Target="../media/image28.png"/><Relationship Id="rId3" Type="http://schemas.openxmlformats.org/officeDocument/2006/relationships/hyperlink" Target="http://images.google.com/imgres?imgurl=http://www.legacytrunks.com/images/Circa%25201850s%2520Gold%2520Rush%2520Stagecoach%2520Trunk.jpg&amp;imgrefurl=http://www.legacytrunks.com/trunk_history_information.htm&amp;usg=__tDk8EuX795EFWybR2SA6qrqwsnY=&amp;h=378&amp;w=504&amp;sz=38&amp;hl=en&amp;start=2&amp;tbnid=T99TGCGZyKj09M:&amp;tbnh=98&amp;tbnw=130&amp;prev=/images?q=trunk&amp;gbv=2&amp;hl=en&amp;sa=G" TargetMode="External"/><Relationship Id="rId4" Type="http://schemas.openxmlformats.org/officeDocument/2006/relationships/image" Target="../media/image53.jpeg"/><Relationship Id="rId5" Type="http://schemas.openxmlformats.org/officeDocument/2006/relationships/hyperlink" Target="http://images.google.com/imgres?imgurl=http://shopping.ascase.com/productcart/pc/catalog/trunk-black_650_1160_general.jpg&amp;imgrefurl=http://shopping.ascase.com/productcart/pc/configurePrd.asp?idcategory=8&amp;idproduct=232&amp;usg=__-2lJzODqaWWsdmbAkxlxHco8nco=&amp;h=340&amp;w=350&amp;sz=15&amp;hl=en&amp;start=8&amp;tbnid=jVFw8ptCEgN14M:&amp;tbnh=117&amp;tbnw=120&amp;prev=/images?q=trunk&amp;gbv=2&amp;hl=en&amp;sa=G" TargetMode="External"/><Relationship Id="rId6" Type="http://schemas.openxmlformats.org/officeDocument/2006/relationships/image" Target="../media/image54.jpeg"/><Relationship Id="rId7" Type="http://schemas.openxmlformats.org/officeDocument/2006/relationships/hyperlink" Target="http://images.google.com/imgres?imgurl=http://www.wilshiregardenmarket.com/garden_accents/images/GD_Copper_Steamer_Trunk_mailbox-255.gif&amp;imgrefurl=http://www.wilshiregardenmarket.com/garden_accents/copper_steamer_trunk_wall_mount_mailbox.htm&amp;usg=__JLq5YoN7cVJAAWHVP2AXwGZ0ODg=&amp;h=300&amp;w=300&amp;sz=54&amp;hl=en&amp;start=9&amp;tbnid=Xu0NOAR6oNf2eM:&amp;tbnh=116&amp;tbnw=116&amp;prev=/images?q=trunk&amp;gbv=2&amp;hl=en&amp;sa=G" TargetMode="External"/><Relationship Id="rId8" Type="http://schemas.openxmlformats.org/officeDocument/2006/relationships/image" Target="../media/image55.jpeg"/><Relationship Id="rId9" Type="http://schemas.openxmlformats.org/officeDocument/2006/relationships/hyperlink" Target="http://images.google.com/imgres?imgurl=http://themetrunks.com/miniatures/images/Gentlemens-Trunk.jpg&amp;imgrefurl=http://themetrunks.com/miniatures/index.php?main_page=products_all&amp;disp_order=1&amp;page=2&amp;usg=__cct6z9a2eU1CC9M5SIauywTtHtE=&amp;h=375&amp;w=340&amp;sz=18&amp;hl=en&amp;start=13&amp;tbnid=k-6hCRJbOvkbRM:&amp;tbnh=122&amp;tbnw=111&amp;prev=/images?q=trunk&amp;gbv=2&amp;hl=en&amp;sa=G" TargetMode="External"/><Relationship Id="rId10" Type="http://schemas.openxmlformats.org/officeDocument/2006/relationships/image" Target="../media/image56.jpeg"/><Relationship Id="rId11" Type="http://schemas.openxmlformats.org/officeDocument/2006/relationships/hyperlink" Target="http://images.google.com/imgres?imgurl=http://themetrunks.com/miniatures/images/Steamer-Trunk.jpg&amp;imgrefurl=http://themetrunks.com/miniatures/index.php?main_page=index&amp;cPath=3&amp;usg=__6pL7UUYrD02ic-UEaxtIuOe26cM=&amp;h=288&amp;w=340&amp;sz=7&amp;hl=en&amp;start=14&amp;tbnid=ceCIgXljA1eCVM:&amp;tbnh=101&amp;tbnw=119&amp;prev=/images?q=trunk&amp;gbv=2&amp;hl=en&amp;sa=G" TargetMode="External"/><Relationship Id="rId12" Type="http://schemas.openxmlformats.org/officeDocument/2006/relationships/image" Target="../media/image57.jpeg"/><Relationship Id="rId13" Type="http://schemas.openxmlformats.org/officeDocument/2006/relationships/hyperlink" Target="http://images.google.com/imgres?imgurl=http://hypebeast.com/image/2008/01/pinel-pinel-air-jordan-sneaker-trunk-1.jpg&amp;imgrefurl=http://hypebeast.com/2008/01/pinelpinel-air-jordan-sneaker-trunk/&amp;usg=__KuGmfSwAxvij8-OzaPsLIOp9OMQ=&amp;h=597&amp;w=670&amp;sz=144&amp;hl=en&amp;start=59&amp;tbnid=FUAiDg9jTpJ3vM:&amp;tbnh=123&amp;tbnw=138&amp;prev=/images?q=trunk&amp;start=40&amp;gbv=2&amp;ndsp=20&amp;hl=en&amp;sa=N" TargetMode="External"/><Relationship Id="rId14" Type="http://schemas.openxmlformats.org/officeDocument/2006/relationships/image" Target="../media/image58.jpeg"/><Relationship Id="rId1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84.xml"/><Relationship Id="rId2" Type="http://schemas.openxmlformats.org/officeDocument/2006/relationships/image" Target="../media/image28.png"/><Relationship Id="rId3" Type="http://schemas.openxmlformats.org/officeDocument/2006/relationships/hyperlink" Target="http://images.google.com/imgres?imgurl=http://web.it.ubc.ca/blogs/it/wp-content/uploads/google_unpack1.jpg&amp;imgrefurl=http://web.it.ubc.ca/blogs/it/?p=46&amp;usg=__UqGA0ZXC7Z3PwmO4lc-8M4VOo_0=&amp;h=450&amp;w=450&amp;sz=321&amp;hl=en&amp;start=13&amp;tbnid=Vp4AVkEGs2ilpM:&amp;tbnh=127&amp;tbnw=127&amp;prev=/images?q=unpack&amp;gbv=2&amp;hl=en" TargetMode="External"/><Relationship Id="rId4" Type="http://schemas.openxmlformats.org/officeDocument/2006/relationships/image" Target="../media/image59.jpeg"/><Relationship Id="rId5" Type="http://schemas.openxmlformats.org/officeDocument/2006/relationships/hyperlink" Target="http://images.google.com/imgres?imgurl=http://thegiantgameco.com/golf_assembly_files/unpack.jpg&amp;imgrefurl=http://thegiantgameco.com/golf_assembly.html&amp;usg=__tznfbXDSa15xmIFkRYGj11aLH3s=&amp;h=220&amp;w=157&amp;sz=5&amp;hl=en&amp;start=4&amp;tbnid=vHL6VJKjyIIdBM:&amp;tbnh=107&amp;tbnw=76&amp;prev=/images?q=unpack&amp;gbv=2&amp;hl=en" TargetMode="External"/><Relationship Id="rId6" Type="http://schemas.openxmlformats.org/officeDocument/2006/relationships/image" Target="../media/image60.jpeg"/><Relationship Id="rId7" Type="http://schemas.openxmlformats.org/officeDocument/2006/relationships/hyperlink" Target="http://images.google.com/imgres?imgurl=http://cognitiveharmony.net/countytrip/5-19/16unpack.jpg&amp;imgrefurl=http://thecountytrip.blogspot.com/&amp;usg=__cblGv56btCf7NrbcjSg_QCzeZu4=&amp;h=480&amp;w=640&amp;sz=54&amp;hl=en&amp;start=31&amp;tbnid=wd-L3tzyPd6qLM:&amp;tbnh=103&amp;tbnw=137&amp;prev=/images?q=unpack&amp;start=20&amp;gbv=2&amp;ndsp=20&amp;hl=en&amp;sa=N" TargetMode="External"/><Relationship Id="rId8" Type="http://schemas.openxmlformats.org/officeDocument/2006/relationships/image" Target="../media/image61.jpeg"/><Relationship Id="rId9" Type="http://schemas.openxmlformats.org/officeDocument/2006/relationships/hyperlink" Target="http://images.google.com/imgres?imgurl=http://www.lunchbucket.org/images/58gal%2520Oceanic/Deltec_AP600/Setup/deltec_unpack_1.JPG&amp;imgrefurl=http://www.lunchbucket.org/deltec_ap600.htm&amp;usg=__GDxOGFLb1p6e8hjT5-zqfqum2sA=&amp;h=480&amp;w=360&amp;sz=27&amp;hl=en&amp;start=33&amp;tbnid=_g7-Qd0_LGPwEM:&amp;tbnh=129&amp;tbnw=97&amp;prev=/images?q=unpack&amp;start=20&amp;gbv=2&amp;ndsp=20&amp;hl=en&amp;sa=N" TargetMode="External"/><Relationship Id="rId10" Type="http://schemas.openxmlformats.org/officeDocument/2006/relationships/image" Target="../media/image62.jpeg"/><Relationship Id="rId11" Type="http://schemas.openxmlformats.org/officeDocument/2006/relationships/hyperlink" Target="http://images.google.com/imgres?imgurl=http://www.campwinnebago.com/pix2006/a/unpack3.jpg&amp;imgrefurl=http://www.campwinnebago.com/pix2006/pix.html&amp;usg=__NtugXiIqs8kLGS0duxc1svP6JYs=&amp;h=408&amp;w=614&amp;sz=74&amp;hl=en&amp;start=78&amp;tbnid=aR_J638TF3_JmM:&amp;tbnh=90&amp;tbnw=136&amp;prev=/images?q=unpack&amp;start=60&amp;gbv=2&amp;ndsp=20&amp;hl=en&amp;sa=N" TargetMode="External"/><Relationship Id="rId12" Type="http://schemas.openxmlformats.org/officeDocument/2006/relationships/image" Target="../media/image63.jpeg"/><Relationship Id="rId13" Type="http://schemas.openxmlformats.org/officeDocument/2006/relationships/hyperlink" Target="http://images.google.com/imgres?imgurl=http://www.kaeldra.com/adventure/kirkland/unpack-bedroom.jpg&amp;imgrefurl=http://www.kaeldra.com/blogarchives/2008_06_01_archive.html&amp;usg=__NvpUuMzIBPriX156rzQtopGQo_k=&amp;h=455&amp;w=600&amp;sz=97&amp;hl=en&amp;start=85&amp;tbnid=ztkXKko0xTNX9M:&amp;tbnh=102&amp;tbnw=135&amp;prev=/images?q=unpack&amp;start=80&amp;gbv=2&amp;ndsp=20&amp;hl=en&amp;sa=N" TargetMode="External"/><Relationship Id="rId14" Type="http://schemas.openxmlformats.org/officeDocument/2006/relationships/image" Target="../media/image64.jpe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43.xml"/><Relationship Id="rId3" Type="http://schemas.openxmlformats.org/officeDocument/2006/relationships/slide" Target="slide92.xml"/><Relationship Id="rId4" Type="http://schemas.openxmlformats.org/officeDocument/2006/relationships/slide" Target="slide136.xml"/><Relationship Id="rId5" Type="http://schemas.openxmlformats.org/officeDocument/2006/relationships/slide" Target="slide152.xml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84.xml"/><Relationship Id="rId2" Type="http://schemas.openxmlformats.org/officeDocument/2006/relationships/image" Target="../media/image28.png"/><Relationship Id="rId3" Type="http://schemas.openxmlformats.org/officeDocument/2006/relationships/hyperlink" Target="http://images.google.com/imgres?imgurl=http://karistiansen.files.wordpress.com/2007/10/stack-of-blankets.jpg&amp;imgrefurl=http://karistiansen.wordpress.com/2007/10/&amp;usg=__WeNg5i-I7Tby5lnUUF6ueBcfcUY=&amp;h=318&amp;w=367&amp;sz=10&amp;hl=en&amp;start=3&amp;tbnid=6Gf4awLPmeiKKM:&amp;tbnh=106&amp;tbnw=122&amp;prev=/images?q=blankets&amp;gbv=2&amp;hl=en" TargetMode="External"/><Relationship Id="rId4" Type="http://schemas.openxmlformats.org/officeDocument/2006/relationships/image" Target="../media/image65.jpeg"/><Relationship Id="rId5" Type="http://schemas.openxmlformats.org/officeDocument/2006/relationships/hyperlink" Target="http://images.google.com/imgres?imgurl=http://batesmillcoverlets.com/wp-content/uploads/2008/03/oxford_blankets.jpg&amp;imgrefurl=http://batesmillcoverlets.com/category/blankets-coverlets/&amp;usg=__h_6e3ou3oGhnTmrnsVa08RatHZk=&amp;h=900&amp;w=900&amp;sz=171&amp;hl=en&amp;start=4&amp;tbnid=SxxKSXJIvYnPlM:&amp;tbnh=146&amp;tbnw=146&amp;prev=/images?q=blankets&amp;gbv=2&amp;hl=en" TargetMode="External"/><Relationship Id="rId6" Type="http://schemas.openxmlformats.org/officeDocument/2006/relationships/image" Target="../media/image66.jpeg"/><Relationship Id="rId7" Type="http://schemas.openxmlformats.org/officeDocument/2006/relationships/hyperlink" Target="http://images.google.com/imgres?imgurl=http://www.embroideryetcetera.com/images/embroidery/blanks/baby-blankets.jpg&amp;imgrefurl=http://www.embroideryetcetera.com/embroidery-blanks.htm&amp;usg=__vEaLuFNnXfpDBYkIvTCpJwdWQzQ=&amp;h=577&amp;w=883&amp;sz=42&amp;hl=en&amp;start=1&amp;tbnid=u8zz4vwszxZ6FM:&amp;tbnh=95&amp;tbnw=146&amp;prev=/images?q=blankets&amp;gbv=2&amp;hl=en" TargetMode="External"/><Relationship Id="rId8" Type="http://schemas.openxmlformats.org/officeDocument/2006/relationships/image" Target="../media/image67.jpeg"/><Relationship Id="rId9" Type="http://schemas.openxmlformats.org/officeDocument/2006/relationships/hyperlink" Target="http://images.google.com/imgres?imgurl=http://www.kashwere.biz/Kashwere-Blankets.JPG&amp;imgrefurl=http://www.kashwere.biz/Kashwere-Blankets.html&amp;usg=__kRBbnwzBHeLIJXWBdZdjuVpcEBA=&amp;h=328&amp;w=555&amp;sz=33&amp;hl=en&amp;start=17&amp;tbnid=ZwvA-j6Ly3NTCM:&amp;tbnh=79&amp;tbnw=133&amp;prev=/images?q=blankets&amp;gbv=2&amp;hl=en" TargetMode="External"/><Relationship Id="rId10" Type="http://schemas.openxmlformats.org/officeDocument/2006/relationships/image" Target="../media/image68.jpeg"/><Relationship Id="rId11" Type="http://schemas.openxmlformats.org/officeDocument/2006/relationships/hyperlink" Target="http://images.google.com/imgres?imgurl=http://www.babyafghans.com/baby_blankets_blue_white.jpg&amp;imgrefurl=http://www.babyafghans.com/blanket_sets_currently_available.htm&amp;usg=__NYQ4dIZPN8TUFTshLCE-a08mYZo=&amp;h=326&amp;w=400&amp;sz=46&amp;hl=en&amp;start=53&amp;tbnid=husxFG7vA8Db0M:&amp;tbnh=101&amp;tbnw=124&amp;prev=/images?q=blankets&amp;start=40&amp;gbv=2&amp;ndsp=20&amp;hl=en&amp;sa=N" TargetMode="External"/><Relationship Id="rId12" Type="http://schemas.openxmlformats.org/officeDocument/2006/relationships/image" Target="../media/image69.jpeg"/><Relationship Id="rId13" Type="http://schemas.openxmlformats.org/officeDocument/2006/relationships/hyperlink" Target="http://images.google.com/imgres?imgurl=http://www.healthgoods.com/shopping/images/Organic_Cotton_Wool_Blankets.jpg&amp;imgrefurl=http://www.healthgoods.com/shopping/Bed_Bath_Products/Organic_Cotton_Wool_Blankets_Comforters.asp&amp;usg=__QZApOJ82dl0dAG2yKrK9eSAQYAE=&amp;h=282&amp;w=402&amp;sz=29&amp;hl=en&amp;start=75&amp;tbnid=vyeiRsM6QBOfSM:&amp;tbnh=87&amp;tbnw=124&amp;prev=/images?q=blankets&amp;start=60&amp;gbv=2&amp;ndsp=20&amp;hl=en&amp;sa=N" TargetMode="External"/><Relationship Id="rId14" Type="http://schemas.openxmlformats.org/officeDocument/2006/relationships/image" Target="../media/image70.jpeg"/><Relationship Id="rId1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84.xml"/><Relationship Id="rId2" Type="http://schemas.openxmlformats.org/officeDocument/2006/relationships/image" Target="../media/image28.png"/><Relationship Id="rId3" Type="http://schemas.openxmlformats.org/officeDocument/2006/relationships/hyperlink" Target="http://images.google.com/imgres?imgurl=http://thecraftyunicorn.com/db1/00079/thecraftyunicorn.com/_uimages/DoublePlume-stitched.JPG&amp;imgrefurl=http://thecraftyunicorn.com/_wsn/page2.html&amp;usg=__DEwpxXa7SRHlx1YVln9FVgCF2Y8=&amp;h=336&amp;w=443&amp;sz=78&amp;hl=en&amp;start=14&amp;tbnid=8yrkAqkilsQpzM:&amp;tbnh=96&amp;tbnw=127&amp;prev=/images?q=stitched&amp;gbv=2&amp;hl=en" TargetMode="External"/><Relationship Id="rId4" Type="http://schemas.openxmlformats.org/officeDocument/2006/relationships/image" Target="../media/image71.jpeg"/><Relationship Id="rId5" Type="http://schemas.openxmlformats.org/officeDocument/2006/relationships/hyperlink" Target="http://images.google.com/imgres?imgurl=http://www.adsportscardsetc.com/ProductImages/supplies2007/AlbumBaseballStitched.jpg&amp;imgrefurl=http://www.adsportscardsetc.com/albumbaseballwhitestitchedultraprosportsbinder82020.aspx&amp;usg=__zznBOMJKtaObu9HLjQ-Dup4OOZc=&amp;h=300&amp;w=300&amp;sz=27&amp;hl=en&amp;start=5&amp;tbnid=xk_3EnvN6Wyi_M:&amp;tbnh=116&amp;tbnw=116&amp;prev=/images?q=stitched&amp;gbv=2&amp;hl=en" TargetMode="External"/><Relationship Id="rId6" Type="http://schemas.openxmlformats.org/officeDocument/2006/relationships/image" Target="../media/image72.jpeg"/><Relationship Id="rId7" Type="http://schemas.openxmlformats.org/officeDocument/2006/relationships/hyperlink" Target="http://images.google.com/imgres?imgurl=http://www.craftstylish.com/assets/uploads/2008/06/jsw19p3a_lg.jpg&amp;imgrefurl=http://www.craftstylish.com/item/3155/the-last-stitch-how-to-finish-your-hand-embroidery&amp;usg=__lcHPZTfKBlwdKYwl4kuhYu3F83I=&amp;h=368&amp;w=430&amp;sz=117&amp;hl=en&amp;start=52&amp;tbnid=PzIj0PIbZHWLjM:&amp;tbnh=108&amp;tbnw=126&amp;prev=/images?q=stitched&amp;start=40&amp;gbv=2&amp;ndsp=20&amp;hl=en&amp;sa=N" TargetMode="External"/><Relationship Id="rId8" Type="http://schemas.openxmlformats.org/officeDocument/2006/relationships/image" Target="../media/image73.jpeg"/><Relationship Id="rId9" Type="http://schemas.openxmlformats.org/officeDocument/2006/relationships/hyperlink" Target="http://images.google.com/imgres?imgurl=http://lafemmerose.files.wordpress.com/2008/06/mock-cathedral-stitched.jpg&amp;imgrefurl=http://lafemmerose.wordpress.com/2008/06/16/mock-cathedral-window/&amp;usg=__V8vi5OgXU4pJ4TDK05n7cWb12jg=&amp;h=1110&amp;w=1085&amp;sz=316&amp;hl=en&amp;start=67&amp;tbnid=f4Uoh-jg_aNDQM:&amp;tbnh=150&amp;tbnw=147&amp;prev=/images?q=stitched&amp;start=60&amp;gbv=2&amp;ndsp=20&amp;hl=en&amp;sa=N" TargetMode="External"/><Relationship Id="rId10" Type="http://schemas.openxmlformats.org/officeDocument/2006/relationships/image" Target="../media/image74.jpeg"/><Relationship Id="rId1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84.xml"/><Relationship Id="rId2" Type="http://schemas.openxmlformats.org/officeDocument/2006/relationships/image" Target="../media/image28.png"/><Relationship Id="rId3" Type="http://schemas.openxmlformats.org/officeDocument/2006/relationships/hyperlink" Target="http://images.google.com/imgres?imgurl=http://www.antique-used-tools.com/CollinsHatchetCarpenter_4.jpg&amp;imgrefurl=http://www.antique-used-tools.com/collins.htm&amp;usg=__8pMV4txsQAGT1PP5UjlWazNU8Tw=&amp;h=295&amp;w=312&amp;sz=29&amp;hl=en&amp;start=20&amp;tbnid=ID1BvJjbIrza5M:&amp;tbnh=111&amp;tbnw=117&amp;prev=/images?q=hatchet&amp;gbv=2&amp;hl=en&amp;sa=G" TargetMode="External"/><Relationship Id="rId4" Type="http://schemas.openxmlformats.org/officeDocument/2006/relationships/image" Target="../media/image75.jpeg"/><Relationship Id="rId5" Type="http://schemas.openxmlformats.org/officeDocument/2006/relationships/hyperlink" Target="http://images.google.com/imgres?imgurl=http://d30034051.purehost.com/store/media/Tools/3HatchetHammer_full.gif&amp;imgrefurl=http://www.survivalsolutions.com/store/product71.html&amp;usg=__vSbDav8k89GZtuCjMdIkBj9BgJU=&amp;h=285&amp;w=380&amp;sz=31&amp;hl=en&amp;start=17&amp;tbnid=JD7Jc_u2vQ-q9M:&amp;tbnh=92&amp;tbnw=123&amp;prev=/images?q=hatchet&amp;gbv=2&amp;hl=en&amp;sa=G" TargetMode="External"/><Relationship Id="rId6" Type="http://schemas.openxmlformats.org/officeDocument/2006/relationships/image" Target="../media/image76.jpeg"/><Relationship Id="rId7" Type="http://schemas.openxmlformats.org/officeDocument/2006/relationships/hyperlink" Target="http://images.google.com/imgres?imgurl=http://www.delisto.com/image/portfolio/large/XtremeHatchet.jpg&amp;imgrefurl=http://www.delisto.com/portfolio.php&amp;usg=__gZqdv-HARnSqa2EHtblPhuj3vaA=&amp;h=612&amp;w=792&amp;sz=247&amp;hl=en&amp;start=18&amp;tbnid=i11zPHFPTCjEBM:&amp;tbnh=111&amp;tbnw=143&amp;prev=/images?q=hatchet&amp;gbv=2&amp;hl=en&amp;sa=G" TargetMode="External"/><Relationship Id="rId8" Type="http://schemas.openxmlformats.org/officeDocument/2006/relationships/image" Target="../media/image77.jpeg"/><Relationship Id="rId9" Type="http://schemas.openxmlformats.org/officeDocument/2006/relationships/hyperlink" Target="http://images.google.com/imgres?imgurl=http://upload.wikimedia.org/wikipedia/commons/b/b2/Hatchet_firefighter.png&amp;imgrefurl=http://commons.wikimedia.org/wiki/Image:Hatchet_firefighter.png&amp;usg=__RJbIUuM-Ar1lfSubzZlS4p1s4Rw=&amp;h=436&amp;w=600&amp;sz=97&amp;hl=en&amp;start=29&amp;tbnid=0lxE7UxvnDZH6M:&amp;tbnh=98&amp;tbnw=135&amp;prev=/images?q=hatchet&amp;start=20&amp;gbv=2&amp;ndsp=20&amp;hl=en&amp;sa=N" TargetMode="External"/><Relationship Id="rId10" Type="http://schemas.openxmlformats.org/officeDocument/2006/relationships/image" Target="../media/image78.jpeg"/><Relationship Id="rId11" Type="http://schemas.openxmlformats.org/officeDocument/2006/relationships/hyperlink" Target="http://images.google.com/imgres?imgurl=http://www.paintedtools.com/images/store/hatchet-copy.jpg&amp;imgrefurl=http://www.paintedtools.com/default.asp?active_page_id=12&amp;usg=__u2M_zDYCJS6fQXtMQL0w82vKFE4=&amp;h=600&amp;w=400&amp;sz=57&amp;hl=en&amp;start=36&amp;tbnid=Xe1baAmDCg8ECM:&amp;tbnh=135&amp;tbnw=90&amp;prev=/images?q=hatchet&amp;start=20&amp;gbv=2&amp;ndsp=20&amp;hl=en&amp;sa=N" TargetMode="External"/><Relationship Id="rId12" Type="http://schemas.openxmlformats.org/officeDocument/2006/relationships/image" Target="../media/image79.jpeg"/><Relationship Id="rId13" Type="http://schemas.openxmlformats.org/officeDocument/2006/relationships/hyperlink" Target="http://images.google.com/imgres?imgurl=http://homepage.mac.com/zombiekiller/badmojo/images/odds/oe03_pauls_hatchet.jpg&amp;imgrefurl=http://homepage.mac.com/zombiekiller/badmojo/odds.html&amp;usg=__Z2pmqP5lFETiVuEk27Fic0f2vFI=&amp;h=600&amp;w=438&amp;sz=60&amp;hl=en&amp;start=54&amp;tbnid=asWcyRT5z-wsGM:&amp;tbnh=135&amp;tbnw=99&amp;prev=/images?q=hatchet&amp;start=40&amp;gbv=2&amp;ndsp=20&amp;hl=en&amp;sa=N" TargetMode="External"/><Relationship Id="rId14" Type="http://schemas.openxmlformats.org/officeDocument/2006/relationships/image" Target="../media/image80.jpeg"/><Relationship Id="rId1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84.xml"/><Relationship Id="rId2" Type="http://schemas.openxmlformats.org/officeDocument/2006/relationships/image" Target="../media/image28.png"/><Relationship Id="rId3" Type="http://schemas.openxmlformats.org/officeDocument/2006/relationships/hyperlink" Target="http://images.google.com/imgres?imgurl=http://www.sz-wholesale.com/uploadFiles/hand%2520made%2520patchwork%2520quilts_585.jpg&amp;imgrefurl=http://www.sz-wholesale.com/Product-list/index_365.htm&amp;usg=__A2ECkiVkFua0jLtqk0rO2Zmg1WY=&amp;h=340&amp;w=500&amp;sz=72&amp;hl=en&amp;start=16&amp;tbnid=HDxBeUmNd9JiGM:&amp;tbnh=88&amp;tbnw=130&amp;prev=/images?q=patchwork&amp;gbv=2&amp;hl=en" TargetMode="External"/><Relationship Id="rId4" Type="http://schemas.openxmlformats.org/officeDocument/2006/relationships/image" Target="../media/image81.jpeg"/><Relationship Id="rId5" Type="http://schemas.openxmlformats.org/officeDocument/2006/relationships/hyperlink" Target="http://images.google.com/imgres?imgurl=http://www.countryporch.com/quilts/images/chenille-patchwork.jpg&amp;imgrefurl=http://www.countryporch.com/quilts/chenille-patchwork.asp&amp;usg=__xuZQepTj69i3_rxKnPErYBAq9uY=&amp;h=500&amp;w=516&amp;sz=35&amp;hl=en&amp;start=19&amp;tbnid=GcV30eipgc0GcM:&amp;tbnh=127&amp;tbnw=131&amp;prev=/images?q=patchwork&amp;gbv=2&amp;hl=en" TargetMode="External"/><Relationship Id="rId6" Type="http://schemas.openxmlformats.org/officeDocument/2006/relationships/image" Target="../media/image82.jpeg"/><Relationship Id="rId7" Type="http://schemas.openxmlformats.org/officeDocument/2006/relationships/hyperlink" Target="http://images.google.com/imgres?imgurl=http://www.sz-wholesale.com/uploadFiles/Patchwork%2520Quilt_990.jpg&amp;imgrefurl=http://www.sz-wholesale.com/Product-list/index_575.htm&amp;usg=__EUyTaUujaFW03753yvLQwEko29w=&amp;h=357&amp;w=437&amp;sz=37&amp;hl=en&amp;start=20&amp;tbnid=cQmfz46my7mq2M:&amp;tbnh=103&amp;tbnw=126&amp;prev=/images?q=patchwork&amp;gbv=2&amp;hl=en" TargetMode="External"/><Relationship Id="rId8" Type="http://schemas.openxmlformats.org/officeDocument/2006/relationships/image" Target="../media/image83.jpeg"/><Relationship Id="rId9" Type="http://schemas.openxmlformats.org/officeDocument/2006/relationships/hyperlink" Target="http://images.google.com/imgres?imgurl=http://creativelittledaisy.typepad.com/photos/purses/blue_and_green_patchwork.jpg&amp;imgrefurl=http://creativelittledaisy.typepad.com/photos/purses/blue_and_green_patchwork.html&amp;usg=__aurWRlonA7YN3N3As1yT26Z6vzk=&amp;h=441&amp;w=499&amp;sz=119&amp;hl=en&amp;start=5&amp;tbnid=ejY8Wpy_qaJycM:&amp;tbnh=115&amp;tbnw=130&amp;prev=/images?q=patchwork&amp;gbv=2&amp;hl=en" TargetMode="External"/><Relationship Id="rId10" Type="http://schemas.openxmlformats.org/officeDocument/2006/relationships/image" Target="../media/image84.jpeg"/><Relationship Id="rId11" Type="http://schemas.openxmlformats.org/officeDocument/2006/relationships/hyperlink" Target="http://images.google.com/imgres?imgurl=http://www.blackyak.co.uk/images/products/ladies_shirts/top%2520hooded%2520patchwork%2520t%2520dye%252074%2520500.jpg&amp;imgrefurl=http://www.blackyak.co.uk/products/ladies_shirts.htm&amp;usg=__vIVfmSPn8xWzp50tvWy9ugy1YpQ=&amp;h=773&amp;w=500&amp;sz=76&amp;hl=en&amp;start=12&amp;tbnid=S1WJZOQjMzYUJM:&amp;tbnh=142&amp;tbnw=92&amp;prev=/images?q=patchwork&amp;gbv=2&amp;hl=en" TargetMode="External"/><Relationship Id="rId12" Type="http://schemas.openxmlformats.org/officeDocument/2006/relationships/image" Target="../media/image85.jpeg"/><Relationship Id="rId13" Type="http://schemas.openxmlformats.org/officeDocument/2006/relationships/hyperlink" Target="http://images.google.com/imgres?imgurl=http://sneakernews.com/wp-content/uploads/2008/01/blazer-patchwork-01a.jpg&amp;imgrefurl=http://sneakernews.com/2008/01/04/nike-wmns-blazer-mid-premium-patchwork/&amp;usg=__ndk2vjzpY6kSiIaCMne2GkOvixQ=&amp;h=428&amp;w=570&amp;sz=57&amp;hl=en&amp;start=21&amp;tbnid=B1z_dKXpwxaf1M:&amp;tbnh=101&amp;tbnw=134&amp;prev=/images?q=patchwork&amp;start=20&amp;gbv=2&amp;ndsp=20&amp;hl=en&amp;sa=N" TargetMode="External"/><Relationship Id="rId14" Type="http://schemas.openxmlformats.org/officeDocument/2006/relationships/image" Target="../media/image86.jpeg"/><Relationship Id="rId15" Type="http://schemas.openxmlformats.org/officeDocument/2006/relationships/hyperlink" Target="http://images.google.com/imgres?imgurl=http://www.dianehome.com/images/quilted_patchwork_pillow_c.jpg&amp;imgrefurl=http://www.dianehome.com/quilted-patchwork-pillows.htm&amp;usg=__GmTreGsHJfwW65sjRxYpXgHavAo=&amp;h=400&amp;w=439&amp;sz=98&amp;hl=en&amp;start=29&amp;tbnid=0CERdGvlLYyGPM:&amp;tbnh=116&amp;tbnw=127&amp;prev=/images?q=patchwork&amp;start=20&amp;gbv=2&amp;ndsp=20&amp;hl=en&amp;sa=N" TargetMode="External"/><Relationship Id="rId16" Type="http://schemas.openxmlformats.org/officeDocument/2006/relationships/image" Target="../media/image87.jpeg"/><Relationship Id="rId17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80.xml"/><Relationship Id="rId2" Type="http://schemas.openxmlformats.org/officeDocument/2006/relationships/slide" Target="slide80.xml"/><Relationship Id="rId3" Type="http://schemas.openxmlformats.org/officeDocument/2006/relationships/slide" Target="slide79.xml"/><Relationship Id="rId4" Type="http://schemas.openxmlformats.org/officeDocument/2006/relationships/slide" Target="slide81.xml"/><Relationship Id="rId5" Type="http://schemas.openxmlformats.org/officeDocument/2006/relationships/slide" Target="slide82.xml"/><Relationship Id="rId6" Type="http://schemas.openxmlformats.org/officeDocument/2006/relationships/slide" Target="slide83.xml"/><Relationship Id="rId7" Type="http://schemas.openxmlformats.org/officeDocument/2006/relationships/slide" Target="slide75.xml"/><Relationship Id="rId8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974880"/>
            <a:ext cx="7772400" cy="7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How can familiar things </a:t>
            </a:r>
            <a:br>
              <a:rPr sz="3600"/>
            </a:b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help us with changes?</a:t>
            </a: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d7aab9"/>
                </a:solidFill>
                <a:latin typeface="Times New Roman"/>
              </a:rPr>
              <a:t>Click to listen to story.</a:t>
            </a:r>
            <a:endParaRPr b="0" lang="en-US" sz="2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8580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0" name="Picture 20" descr="Quilt Stor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76720" y="2362320"/>
            <a:ext cx="29797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0" lang="en-US" sz="40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Monday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1523880" y="2362320"/>
          <a:ext cx="6096240" cy="3700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70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ur </a:t>
                      </a:r>
                      <a:r>
                        <a:rPr b="1" i="1" lang="en-US" sz="32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worl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is changing all the time.  Changing is </a:t>
                      </a:r>
                      <a:r>
                        <a:rPr b="1" i="1" lang="en-US" sz="32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often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hard.  How can familiar things help us with change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04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llables C + 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are and Contr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ory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and Our Se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i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i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i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ra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i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i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ra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i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rav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i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ra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i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rav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i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rav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00b7a5"/>
                </a:solidFill>
                <a:latin typeface="Verdana"/>
              </a:rPr>
              <a:t>blankets, pretended, quilt, stuffing, trunks, unpacked, wrapped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ma and I used cloth scraps to make a patchwork 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00b7a5"/>
                </a:solidFill>
                <a:latin typeface="Verdana"/>
              </a:rPr>
              <a:t>blankets, pretended, quilt, stuffing, trunks, unpacked, wrapped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ma and I used cloth scraps to make a patchwork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quil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____ the present in bright paper and ribbons before I give it to my m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00b7a5"/>
                </a:solidFill>
                <a:latin typeface="Verdana"/>
              </a:rPr>
              <a:t>blankets, pretended, quilt, stuffing, trunks, unpacked, wrapped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ma and I used cloth scraps to make a patchwork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quil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wrapp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 present in bright paper and ribbons before I give it to my m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brother_____ he was a drag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Vocabulary Words</a:t>
            </a:r>
            <a:br>
              <a:rPr sz="4000"/>
            </a:br>
            <a:r>
              <a:rPr b="1" i="1" lang="en-US" sz="2000" spc="-1" strike="noStrike">
                <a:solidFill>
                  <a:srgbClr val="d7aab9"/>
                </a:solidFill>
                <a:latin typeface="Verdana"/>
              </a:rPr>
              <a:t>blankets, pretended, quilt, stuffing, trunks, unpacked, wrapped</a:t>
            </a:r>
            <a:endParaRPr b="0" lang="en-US" sz="2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ma and I used cloth scraps to make a patchwork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quil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wrapp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 present in bright paper and ribbons before I give it to my m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brother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pretend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he was a drag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_____ inside my pillow makes it sof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90720" y="1219320"/>
            <a:ext cx="73404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  <a:ea typeface="Arial"/>
              </a:rPr>
              <a:t>Quilt Story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Vocabulary Words</a:t>
            </a:r>
            <a:br>
              <a:rPr sz="4000"/>
            </a:br>
            <a:r>
              <a:rPr b="1" i="1" lang="en-US" sz="2000" spc="-1" strike="noStrike">
                <a:solidFill>
                  <a:srgbClr val="d7aab9"/>
                </a:solidFill>
                <a:latin typeface="Verdana"/>
              </a:rPr>
              <a:t>blankets, pretended, quilt, stuffing, trunks, unpacked, wrapped</a:t>
            </a:r>
            <a:endParaRPr b="0" lang="en-US" sz="2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ma and I used cloth scraps to make a patchwork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quil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wrapp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 present in bright paper and ribbons before I give it to my m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brother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pretend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he was a drag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stuff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nside my pillow makes it sof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Vocabulary Words</a:t>
            </a:r>
            <a:br>
              <a:rPr sz="4000"/>
            </a:br>
            <a:r>
              <a:rPr b="1" i="1" lang="en-US" sz="2000" spc="-1" strike="noStrike">
                <a:solidFill>
                  <a:srgbClr val="d7aab9"/>
                </a:solidFill>
                <a:latin typeface="Verdana"/>
              </a:rPr>
              <a:t>blankets, pretended, quilt, stuffing, trunks, unpacked, wrapped</a:t>
            </a:r>
            <a:endParaRPr b="0" lang="en-US" sz="2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stored our old clothes and toys in ____ in the atti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00b7a5"/>
                </a:solidFill>
                <a:latin typeface="Verdana"/>
              </a:rPr>
              <a:t>blankets, pretended, quilt, stuffing, trunks, unpacked, wrapped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stored our old clothes and toys in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trunk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n the atti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house was cold so mom and I put extra ____ on the be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00b7a5"/>
                </a:solidFill>
                <a:latin typeface="Verdana"/>
              </a:rPr>
              <a:t>blankets, pretended, quilt, stuffing, trunks, unpacked, wrapped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stored our old clothes and toys in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trunk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n the atti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house was cold so mom and I put extra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blanket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n the be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fter the trip, I opened my suitcase and ____ my cloth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00b7a5"/>
                </a:solidFill>
                <a:latin typeface="Verdana"/>
              </a:rPr>
              <a:t>blankets, pretended, quilt, stuffing, trunks, unpacked, wrapped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stored our old clothes and toys in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trunk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n the atti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house was cold so mom and I put extra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blanket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n the be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fter the trip, I opened my suitcase and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unpack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y cloth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42" name=""/>
          <p:cNvGraphicFramePr/>
          <p:nvPr/>
        </p:nvGraphicFramePr>
        <p:xfrm>
          <a:off x="685800" y="1523880"/>
          <a:ext cx="2895480" cy="452448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Word Famil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3" name=""/>
          <p:cNvGraphicFramePr/>
          <p:nvPr/>
        </p:nvGraphicFramePr>
        <p:xfrm>
          <a:off x="3809880" y="1523880"/>
          <a:ext cx="4689720" cy="4614840"/>
        </p:xfrm>
        <a:graphic>
          <a:graphicData uri="http://schemas.openxmlformats.org/drawingml/2006/table">
            <a:tbl>
              <a:tblPr/>
              <a:tblGrid>
                <a:gridCol w="468972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           bun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             bu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e           gigg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ble           spar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urple         </a:t>
                      </a: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ti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ble            </a:t>
                      </a: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mum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ugle          </a:t>
                      </a: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scram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w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Word Family Word – cheer</a:t>
            </a:r>
            <a:r>
              <a:rPr b="1" lang="en-US" sz="4000" spc="-1" strike="noStrike">
                <a:solidFill>
                  <a:srgbClr val="00b7a5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1400" spc="-1" strike="noStrike" u="sng">
                <a:solidFill>
                  <a:srgbClr val="f297cd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1371600" y="1981080"/>
          <a:ext cx="6172200" cy="4048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1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v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Quilt Story </a:t>
            </a:r>
            <a:br>
              <a:rPr sz="3600"/>
            </a:b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Word Family Word – cheer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747" name="Picture 2" descr="http://tbn0.google.com/images?q=tbn:_L1wR2YcKyXAwM:http://www.cuti.com.my/Sub/Kl/kuala_lumpur_deer_par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2133720"/>
            <a:ext cx="1562040" cy="12189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4" descr="http://tbn1.google.com/images?q=tbn:BQNRBmu5JSYbmM:http://www.sixwise.com/images/articles/2006/08/13/bully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2057400"/>
            <a:ext cx="990360" cy="138420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6" descr="http://tbn2.google.com/images?q=tbn:bz-WX8scz_f8iM:http://www.uam.es/otros/hojavol/hoja8/imagenes08/leer08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91120" y="2209680"/>
            <a:ext cx="1676160" cy="107316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8" descr="http://tbn0.google.com/images?q=tbn:gajkcFSmcspCtM:http://www.britishschool.be/uploads/imanager/secondary/ssl/peer-support-group08-09_big.jpg"/>
          <p:cNvPicPr/>
          <p:nvPr/>
        </p:nvPicPr>
        <p:blipFill>
          <a:blip r:embed="rId7"/>
          <a:stretch/>
        </p:blipFill>
        <p:spPr>
          <a:xfrm>
            <a:off x="6324480" y="2209680"/>
            <a:ext cx="1841760" cy="121932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0" descr="http://tbn1.google.com/images?q=tbn:3PJlf_ft76agxM:http://i148.photobucket.com/albums/s34/jumper5836/GTG-2009/forza2/roadamerica25lap/lap1_turn7_1.jpg"/>
          <p:cNvPicPr/>
          <p:nvPr/>
        </p:nvPicPr>
        <p:blipFill>
          <a:blip r:embed="rId8"/>
          <a:stretch/>
        </p:blipFill>
        <p:spPr>
          <a:xfrm>
            <a:off x="914400" y="4419720"/>
            <a:ext cx="1905120" cy="127944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12" descr="http://tbn3.google.com/images?q=tbn:RwL3iNdcpZ_DSM:http://www.blogcdn.com/www.politicsdaily.com/media/2009/01/cheney4-724104.jpg"/>
          <p:cNvPicPr/>
          <p:nvPr/>
        </p:nvPicPr>
        <p:blipFill>
          <a:blip r:embed="rId9"/>
          <a:stretch/>
        </p:blipFill>
        <p:spPr>
          <a:xfrm>
            <a:off x="3200400" y="4505400"/>
            <a:ext cx="1295280" cy="114300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14" descr="http://tbn3.google.com/images?q=tbn:UG_Hoy_AQb34sM:http://www.mccullagh.org/db9/d30-17/longhorn-steer-2.jpg"/>
          <p:cNvPicPr/>
          <p:nvPr/>
        </p:nvPicPr>
        <p:blipFill>
          <a:blip r:embed="rId10"/>
          <a:stretch/>
        </p:blipFill>
        <p:spPr>
          <a:xfrm>
            <a:off x="5257800" y="4419720"/>
            <a:ext cx="905040" cy="13525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16" descr="http://tbn2.google.com/images?q=tbn:jpBKkQnFM4L_RM:http://www.r32argent.ca/Interior%2520pictures_files/steering%2520wheel.jpg"/>
          <p:cNvPicPr/>
          <p:nvPr/>
        </p:nvPicPr>
        <p:blipFill>
          <a:blip r:embed="rId11"/>
          <a:stretch/>
        </p:blipFill>
        <p:spPr>
          <a:xfrm>
            <a:off x="6553080" y="4495680"/>
            <a:ext cx="1527120" cy="1143000"/>
          </a:xfrm>
          <a:prstGeom prst="rect">
            <a:avLst/>
          </a:prstGeom>
          <a:ln w="0">
            <a:noFill/>
          </a:ln>
        </p:spPr>
      </p:pic>
      <p:sp>
        <p:nvSpPr>
          <p:cNvPr id="755" name="TextBox 10"/>
          <p:cNvSpPr/>
          <p:nvPr/>
        </p:nvSpPr>
        <p:spPr>
          <a:xfrm>
            <a:off x="1236960" y="3352680"/>
            <a:ext cx="91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de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TextBox 11"/>
          <p:cNvSpPr/>
          <p:nvPr/>
        </p:nvSpPr>
        <p:spPr>
          <a:xfrm>
            <a:off x="2923920" y="3429000"/>
            <a:ext cx="7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je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TextBox 12"/>
          <p:cNvSpPr/>
          <p:nvPr/>
        </p:nvSpPr>
        <p:spPr>
          <a:xfrm>
            <a:off x="4666320" y="3276720"/>
            <a:ext cx="7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le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TextBox 13"/>
          <p:cNvSpPr/>
          <p:nvPr/>
        </p:nvSpPr>
        <p:spPr>
          <a:xfrm>
            <a:off x="6799320" y="3429000"/>
            <a:ext cx="91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pe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TextBox 14"/>
          <p:cNvSpPr/>
          <p:nvPr/>
        </p:nvSpPr>
        <p:spPr>
          <a:xfrm>
            <a:off x="1475280" y="57150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ve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TextBox 15"/>
          <p:cNvSpPr/>
          <p:nvPr/>
        </p:nvSpPr>
        <p:spPr>
          <a:xfrm>
            <a:off x="3378240" y="5638680"/>
            <a:ext cx="9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sne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TextBox 16"/>
          <p:cNvSpPr/>
          <p:nvPr/>
        </p:nvSpPr>
        <p:spPr>
          <a:xfrm>
            <a:off x="5133960" y="5791320"/>
            <a:ext cx="9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ste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TextBox 17"/>
          <p:cNvSpPr/>
          <p:nvPr/>
        </p:nvSpPr>
        <p:spPr>
          <a:xfrm>
            <a:off x="6886800" y="5638680"/>
            <a:ext cx="9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ste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Multiple-Meaning Words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97cd"/>
                </a:solidFill>
                <a:latin typeface="Verdana"/>
              </a:rPr>
              <a:t>Words that have more than one meaning are multiple-meaning wor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lang="en-US" sz="2800" spc="-1" strike="noStrike">
                <a:solidFill>
                  <a:srgbClr val="f297cd"/>
                </a:solidFill>
                <a:latin typeface="Verdana"/>
              </a:rPr>
              <a:t>trunk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of this tree is bumpy and brow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put bags in the </a:t>
            </a:r>
            <a:r>
              <a:rPr b="0" lang="en-US" sz="2800" spc="-1" strike="noStrike">
                <a:solidFill>
                  <a:srgbClr val="f297cd"/>
                </a:solidFill>
                <a:latin typeface="Verdana"/>
              </a:rPr>
              <a:t>trunk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of our c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ter squirted from the elephant</a:t>
            </a:r>
            <a:r>
              <a:rPr b="0" lang="ja-JP" sz="28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 </a:t>
            </a:r>
            <a:r>
              <a:rPr b="0" lang="en-US" sz="2800" spc="-1" strike="noStrike">
                <a:solidFill>
                  <a:srgbClr val="f297cd"/>
                </a:solidFill>
                <a:latin typeface="Verdana"/>
              </a:rPr>
              <a:t>trunk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an put on his </a:t>
            </a:r>
            <a:r>
              <a:rPr b="0" lang="en-US" sz="2800" spc="-1" strike="noStrike">
                <a:solidFill>
                  <a:srgbClr val="f297cd"/>
                </a:solidFill>
                <a:latin typeface="Verdana"/>
              </a:rPr>
              <a:t>trunk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nd went for a swi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Multiple-Meaning Words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bde3"/>
                </a:solidFill>
                <a:latin typeface="Verdana"/>
              </a:rPr>
              <a:t>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z put her </a:t>
            </a:r>
            <a:r>
              <a:rPr b="0" lang="en-US" sz="3200" spc="-1" strike="noStrike">
                <a:solidFill>
                  <a:srgbClr val="ffbde3"/>
                </a:solidFill>
                <a:latin typeface="Verdana"/>
              </a:rPr>
              <a:t>chang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n her piggy ban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lease </a:t>
            </a:r>
            <a:r>
              <a:rPr b="0" lang="en-US" sz="3200" spc="-1" strike="noStrike">
                <a:solidFill>
                  <a:srgbClr val="ffbde3"/>
                </a:solidFill>
                <a:latin typeface="Verdana"/>
              </a:rPr>
              <a:t>chang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your wet cloth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bies grow and </a:t>
            </a:r>
            <a:r>
              <a:rPr b="0" lang="en-US" sz="3200" spc="-1" strike="noStrike">
                <a:solidFill>
                  <a:srgbClr val="ffbde3"/>
                </a:solidFill>
                <a:latin typeface="Verdana"/>
              </a:rPr>
              <a:t>chang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ver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97cd"/>
                </a:solidFill>
                <a:latin typeface="Verdana"/>
                <a:ea typeface="Arial"/>
              </a:rPr>
              <a:t>preserv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pre – ser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When you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preserv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something, you keep it protected from anything that would cause it to be ruined or spoil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You can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preserv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 photo by putting it in a fra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You can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preserv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food by freezing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Picture 5" descr="Student Pages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305920" cy="609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ann made an aple pi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97cd"/>
                </a:solidFill>
                <a:latin typeface="Verdana"/>
              </a:rPr>
              <a:t>Ann made an apple pi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do you like pi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97cd"/>
                </a:solidFill>
                <a:latin typeface="Verdana"/>
              </a:rPr>
              <a:t>Do you like pie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Grammar: Adjectiv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adjectiv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describes a person, place, animal, or 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adjectiv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an tell how something looks, sounds, tastes, feels, or smel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7a5"/>
                </a:solidFill>
                <a:latin typeface="Verdana"/>
              </a:rPr>
              <a:t>Grammar: Adjectives</a:t>
            </a:r>
            <a:br>
              <a:rPr sz="4000"/>
            </a:br>
            <a:r>
              <a:rPr b="0" lang="en-US" sz="2800" spc="-1" strike="noStrike">
                <a:solidFill>
                  <a:srgbClr val="00b7a5"/>
                </a:solidFill>
                <a:latin typeface="Verdana"/>
              </a:rPr>
              <a:t>Think of words that tells how these fruits taste, look, feel, smell, and sounds.</a:t>
            </a:r>
            <a:endParaRPr b="0" lang="en-US" sz="28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1905120" y="2895480"/>
          <a:ext cx="5562360" cy="2590920"/>
        </p:xfrm>
        <a:graphic>
          <a:graphicData uri="http://schemas.openxmlformats.org/drawingml/2006/table">
            <a:tbl>
              <a:tblPr/>
              <a:tblGrid>
                <a:gridCol w="2781360"/>
                <a:gridCol w="27810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Ap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Grap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Wrap Up Our Day!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are and Contr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ad with Accuracy and Appropriate 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morrow we will read about a quilt that was made for a special birthday celeb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63748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Wednesday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76" name=""/>
          <p:cNvGraphicFramePr/>
          <p:nvPr/>
        </p:nvGraphicFramePr>
        <p:xfrm>
          <a:off x="1371600" y="2286000"/>
          <a:ext cx="6095880" cy="33098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09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te a paragraph explaining how a tree's trunk changes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ver time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Thursday</a:t>
            </a:r>
            <a:r>
              <a:rPr b="0" lang="en-US" sz="3600" spc="-1" strike="noStrike">
                <a:solidFill>
                  <a:srgbClr val="00b7a5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78" name=""/>
          <p:cNvGraphicFramePr/>
          <p:nvPr/>
        </p:nvGraphicFramePr>
        <p:xfrm>
          <a:off x="990720" y="1981080"/>
          <a:ext cx="7162560" cy="4237200"/>
        </p:xfrm>
        <a:graphic>
          <a:graphicData uri="http://schemas.openxmlformats.org/drawingml/2006/table">
            <a:tbl>
              <a:tblPr/>
              <a:tblGrid>
                <a:gridCol w="7162560"/>
              </a:tblGrid>
              <a:tr h="423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about another quilt.  It was stitched by the people of Brewster.  The pictures on the quilt represent important things about the town.  What would a quilt of your town include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Thursday</a:t>
            </a:r>
            <a:r>
              <a:rPr b="0" lang="en-US" sz="3600" spc="-1" strike="noStrike">
                <a:solidFill>
                  <a:srgbClr val="00b7a5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80" name=""/>
          <p:cNvGraphicFramePr/>
          <p:nvPr/>
        </p:nvGraphicFramePr>
        <p:xfrm>
          <a:off x="990720" y="1981080"/>
          <a:ext cx="7162560" cy="4237200"/>
        </p:xfrm>
        <a:graphic>
          <a:graphicData uri="http://schemas.openxmlformats.org/drawingml/2006/table">
            <a:tbl>
              <a:tblPr/>
              <a:tblGrid>
                <a:gridCol w="7162560"/>
              </a:tblGrid>
              <a:tr h="423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about another </a:t>
                      </a:r>
                      <a:r>
                        <a:rPr b="1" i="1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quilt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.  It was </a:t>
                      </a:r>
                      <a:r>
                        <a:rPr b="1" i="1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stitched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by the people of Brewster.  The pictures on the quilt </a:t>
                      </a:r>
                      <a:r>
                        <a:rPr b="1" i="1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represent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important things about the town.  What would a quilt of your town include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iew 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iew Vocabulary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llables: consonant + 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and Our Se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84" name=""/>
          <p:cNvGraphicFramePr/>
          <p:nvPr/>
        </p:nvGraphicFramePr>
        <p:xfrm>
          <a:off x="2819520" y="1600200"/>
          <a:ext cx="3657600" cy="45529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58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Amazing Wor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ser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res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alu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u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ntr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mel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ti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97cd"/>
                </a:solidFill>
                <a:latin typeface="Verdana"/>
                <a:ea typeface="Arial"/>
              </a:rPr>
              <a:t>represen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rep – re – s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o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represen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something means to stand for it or symbolize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A person can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represen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nother person or 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Flags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represen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countr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A mayor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represents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the people of a c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7a5"/>
                </a:solidFill>
                <a:latin typeface="Verdana"/>
                <a:ea typeface="Verdana"/>
              </a:rPr>
              <a:t>Read-Aloud</a:t>
            </a:r>
            <a:endParaRPr b="0" lang="en-US" sz="72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Verdana"/>
              </a:rPr>
              <a:t>The Good Gif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7" name=""/>
          <p:cNvGraphicFramePr/>
          <p:nvPr/>
        </p:nvGraphicFramePr>
        <p:xfrm>
          <a:off x="2590920" y="685800"/>
          <a:ext cx="4038480" cy="56386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567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lanke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tend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ff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unk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pack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app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itch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tch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tchwor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Sentence Reading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omeone made that apple pie on the tabl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bridle might be somewhere in the stabl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d you see my friend cry when he took a tumbl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Sentence Reading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e will fly kites high in the sky when we go to the count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y beautiful purple bike is so nice to rid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 did not like the sight of a bee right there in the front yar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685800" y="1523880"/>
          <a:ext cx="2895480" cy="452448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Word Famil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3809880" y="1523880"/>
          <a:ext cx="4689720" cy="4614840"/>
        </p:xfrm>
        <a:graphic>
          <a:graphicData uri="http://schemas.openxmlformats.org/drawingml/2006/table">
            <a:tbl>
              <a:tblPr/>
              <a:tblGrid>
                <a:gridCol w="468972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           bun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             bu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e           gigg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ble           spar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urple         </a:t>
                      </a: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ti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ble            </a:t>
                      </a: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mum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ugle          </a:t>
                      </a: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scram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w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Word Family Word – boy</a:t>
            </a:r>
            <a:br>
              <a:rPr sz="4000"/>
            </a:br>
            <a:r>
              <a:rPr b="1" lang="en-US" sz="1400" spc="-1" strike="noStrike">
                <a:solidFill>
                  <a:srgbClr val="00b7a5"/>
                </a:solidFill>
                <a:latin typeface="Verdana"/>
              </a:rPr>
              <a:t>(online dictionary)</a:t>
            </a:r>
            <a:endParaRPr b="0" lang="en-US" sz="1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96" name=""/>
          <p:cNvGraphicFramePr/>
          <p:nvPr/>
        </p:nvGraphicFramePr>
        <p:xfrm>
          <a:off x="1371600" y="1981080"/>
          <a:ext cx="6172200" cy="35355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pl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Tr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Quilt Story </a:t>
            </a:r>
            <a:br>
              <a:rPr sz="3600"/>
            </a:b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Word Family Word – boy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798" name="Picture 2" descr="http://tbn0.google.com/images?q=tbn:9F3cgkQjEjh_xM:http://www.eriksinfobase.com/images/forsale_animals/coy%2520fish%2520orange%2520taiwan%2520lots%2520mass%2520swarm%2520red%2520yellow%2520koi%2520koy%2520pond%2520national%2520palace%2520museum%2520more.jpg"/>
          <p:cNvPicPr/>
          <p:nvPr/>
        </p:nvPicPr>
        <p:blipFill>
          <a:blip r:embed="rId1"/>
          <a:stretch/>
        </p:blipFill>
        <p:spPr>
          <a:xfrm>
            <a:off x="914400" y="2133720"/>
            <a:ext cx="1925640" cy="144756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4" descr="http://tbn1.google.com/images?q=tbn:y_Glg219g56BkM:http://farm1.static.flickr.com/56/126661740_09fc5a03ab.jpg"/>
          <p:cNvPicPr/>
          <p:nvPr/>
        </p:nvPicPr>
        <p:blipFill>
          <a:blip r:embed="rId2"/>
          <a:stretch/>
        </p:blipFill>
        <p:spPr>
          <a:xfrm>
            <a:off x="3276720" y="2133720"/>
            <a:ext cx="1819080" cy="137160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6" descr="http://tbn2.google.com/images?q=tbn:4sra4pzM1PRxEM:http://jakst.files.wordpress.com/2009/06/soy.jpg"/>
          <p:cNvPicPr/>
          <p:nvPr/>
        </p:nvPicPr>
        <p:blipFill>
          <a:blip r:embed="rId3"/>
          <a:stretch/>
        </p:blipFill>
        <p:spPr>
          <a:xfrm>
            <a:off x="1676520" y="441972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8" descr="http://tbn3.google.com/images?q=tbn:OhjXKCU5z1gGUM:http://www.soytoy.com/graphics/stm600.jpg"/>
          <p:cNvPicPr/>
          <p:nvPr/>
        </p:nvPicPr>
        <p:blipFill>
          <a:blip r:embed="rId4"/>
          <a:stretch/>
        </p:blipFill>
        <p:spPr>
          <a:xfrm>
            <a:off x="3276720" y="4145040"/>
            <a:ext cx="1752480" cy="227484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10" descr="http://tbn0.google.com/images?q=tbn:RbAUBYZkRdCTAM:http://www.neath-porttalbot.gov.uk/images/toy%2520library%2520march%25202006%2520004.jpg"/>
          <p:cNvPicPr/>
          <p:nvPr/>
        </p:nvPicPr>
        <p:blipFill>
          <a:blip r:embed="rId5"/>
          <a:stretch/>
        </p:blipFill>
        <p:spPr>
          <a:xfrm>
            <a:off x="5867280" y="2133720"/>
            <a:ext cx="1828800" cy="2814480"/>
          </a:xfrm>
          <a:prstGeom prst="rect">
            <a:avLst/>
          </a:prstGeom>
          <a:ln w="0">
            <a:noFill/>
          </a:ln>
        </p:spPr>
      </p:pic>
      <p:sp>
        <p:nvSpPr>
          <p:cNvPr id="803" name="TextBox 7"/>
          <p:cNvSpPr/>
          <p:nvPr/>
        </p:nvSpPr>
        <p:spPr>
          <a:xfrm>
            <a:off x="2156760" y="5791320"/>
            <a:ext cx="6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so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TextBox 8"/>
          <p:cNvSpPr/>
          <p:nvPr/>
        </p:nvSpPr>
        <p:spPr>
          <a:xfrm>
            <a:off x="1471680" y="358128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co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TextBox 9"/>
          <p:cNvSpPr/>
          <p:nvPr/>
        </p:nvSpPr>
        <p:spPr>
          <a:xfrm>
            <a:off x="3763080" y="3505320"/>
            <a:ext cx="6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jo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TextBox 10"/>
          <p:cNvSpPr/>
          <p:nvPr/>
        </p:nvSpPr>
        <p:spPr>
          <a:xfrm>
            <a:off x="6422760" y="4952880"/>
            <a:ext cx="6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to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Making Memorie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hanging with the Times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s 34 - 3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686800" cy="662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Daily Fix-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tom has a bunndle of books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97cd"/>
                </a:solidFill>
                <a:latin typeface="Verdana"/>
              </a:rPr>
              <a:t>Tom has a bundle of book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 am able to write my nam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97cd"/>
                </a:solidFill>
                <a:latin typeface="Verdana"/>
              </a:rPr>
              <a:t>I am able to write my nam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Adjectives</a:t>
            </a:r>
            <a:br>
              <a:rPr sz="4000"/>
            </a:br>
            <a:r>
              <a:rPr b="0" i="1" lang="en-US" sz="2800" spc="-1" strike="noStrike">
                <a:solidFill>
                  <a:srgbClr val="00b7a5"/>
                </a:solidFill>
                <a:latin typeface="Arial Narrow"/>
              </a:rPr>
              <a:t>Choose adjectives that describe each of the senses.</a:t>
            </a:r>
            <a:endParaRPr b="0" lang="en-US" sz="28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811" name=""/>
          <p:cNvGraphicFramePr/>
          <p:nvPr/>
        </p:nvGraphicFramePr>
        <p:xfrm>
          <a:off x="685800" y="2133720"/>
          <a:ext cx="7772400" cy="411480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L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Fe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Tas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Sou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Sme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4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97cd"/>
                </a:solidFill>
                <a:latin typeface="Verdana"/>
                <a:ea typeface="Arial"/>
              </a:rPr>
              <a:t>valuabl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val – u - a - b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If something is worth something or is important to you, it is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valuabl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Your friends are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valuabl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to yo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Your mother may have given you a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valuabl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piece of jewel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Wrap Up Our Day!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xt to Sel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have read selections that explain how familiar things can help us deal with changes.  Tomorrow we will learn more about how things ch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Thursday</a:t>
            </a:r>
            <a:r>
              <a:rPr b="0" lang="en-US" sz="3600" spc="-1" strike="noStrike">
                <a:solidFill>
                  <a:srgbClr val="00b7a5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815" name=""/>
          <p:cNvGraphicFramePr/>
          <p:nvPr/>
        </p:nvGraphicFramePr>
        <p:xfrm>
          <a:off x="1600200" y="24382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st different landmarks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 your city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Times New Roman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Times New Roman"/>
              </a:rPr>
              <a:t>Friday 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1447920" y="220968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8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is week we read about ways to make tough changes easier.  One way is to preserve familiar things.  Why are familiar things valuable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Times New Roman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Times New Roman"/>
              </a:rPr>
              <a:t>Friday 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1447920" y="220968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8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is week we read about ways to make </a:t>
                      </a:r>
                      <a:r>
                        <a:rPr b="1" i="1" lang="en-US" sz="32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tough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changes easier.  One way is to </a:t>
                      </a:r>
                      <a:r>
                        <a:rPr b="1" i="1" lang="en-US" sz="32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preserv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familiar things.  Why are familiar things </a:t>
                      </a:r>
                      <a:r>
                        <a:rPr b="1" i="1" lang="en-US" sz="32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valuabl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llables: Consonant + 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and Our Se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ference 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2819520" y="1600200"/>
          <a:ext cx="3657600" cy="45529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58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Amazing Wor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ser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res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alu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u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ntr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mel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ti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7a5"/>
                </a:solidFill>
                <a:latin typeface="Verdana"/>
                <a:ea typeface="Verdana"/>
              </a:rPr>
              <a:t>Read-Aloud</a:t>
            </a:r>
            <a:endParaRPr b="0" lang="en-US" sz="72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Verdana"/>
              </a:rPr>
              <a:t>The Good Gif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6" name=""/>
          <p:cNvGraphicFramePr/>
          <p:nvPr/>
        </p:nvGraphicFramePr>
        <p:xfrm>
          <a:off x="2590920" y="685800"/>
          <a:ext cx="4038480" cy="56386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567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lanke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tend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ff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unk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pack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app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itch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tch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tchwor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Syllables: Consonant + le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baby slept in a simple little crad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baby slept in a </a:t>
            </a:r>
            <a:r>
              <a:rPr b="0" lang="en-US" sz="3200" spc="-1" strike="noStrike">
                <a:solidFill>
                  <a:srgbClr val="ffbde3"/>
                </a:solidFill>
                <a:latin typeface="Verdana"/>
              </a:rPr>
              <a:t>simp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little </a:t>
            </a:r>
            <a:r>
              <a:rPr b="0" lang="en-US" sz="3200" spc="-1" strike="noStrike">
                <a:solidFill>
                  <a:srgbClr val="ffbde3"/>
                </a:solidFill>
                <a:latin typeface="Verdana"/>
              </a:rPr>
              <a:t>crad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was able to pick the apple from the tre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was </a:t>
            </a:r>
            <a:r>
              <a:rPr b="0" lang="en-US" sz="3200" spc="-1" strike="noStrike">
                <a:solidFill>
                  <a:srgbClr val="ffbde3"/>
                </a:solidFill>
                <a:latin typeface="Verdana"/>
              </a:rPr>
              <a:t>ab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o pick the </a:t>
            </a:r>
            <a:r>
              <a:rPr b="0" lang="en-US" sz="3200" spc="-1" strike="noStrike">
                <a:solidFill>
                  <a:srgbClr val="ffbde3"/>
                </a:solidFill>
                <a:latin typeface="Verdana"/>
              </a:rPr>
              <a:t>app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from the tre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Syllables: Consonant + le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m will sprinkle pepper on top of my noodle dis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m will </a:t>
            </a:r>
            <a:r>
              <a:rPr b="0" lang="en-US" sz="3200" spc="-1" strike="noStrike">
                <a:solidFill>
                  <a:srgbClr val="ffbde3"/>
                </a:solidFill>
                <a:latin typeface="Verdana"/>
              </a:rPr>
              <a:t>sprink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pepper on top of my </a:t>
            </a:r>
            <a:r>
              <a:rPr b="0" lang="en-US" sz="3200" spc="-1" strike="noStrike">
                <a:solidFill>
                  <a:srgbClr val="ffbde3"/>
                </a:solidFill>
                <a:latin typeface="Verdana"/>
              </a:rPr>
              <a:t>nood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dis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like to snuggle and giggle with Mom and 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like to </a:t>
            </a:r>
            <a:r>
              <a:rPr b="0" lang="en-US" sz="3200" spc="-1" strike="noStrike">
                <a:solidFill>
                  <a:srgbClr val="ffbde3"/>
                </a:solidFill>
                <a:latin typeface="Verdana"/>
              </a:rPr>
              <a:t>snugg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lang="en-US" sz="3200" spc="-1" strike="noStrike">
                <a:solidFill>
                  <a:srgbClr val="ffbde3"/>
                </a:solidFill>
                <a:latin typeface="Verdana"/>
              </a:rPr>
              <a:t>gigg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ith Mom and 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743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7a5"/>
                </a:solidFill>
                <a:latin typeface="Times New Roman"/>
              </a:rPr>
              <a:t>Click to listen to a song about some favorite, familiar things.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421" name="Picture 2" descr="Favorite, Old Things"/>
          <p:cNvPicPr/>
          <p:nvPr/>
        </p:nvPicPr>
        <p:blipFill>
          <a:blip r:embed="rId1"/>
          <a:srcRect l="0" t="0" r="0" b="14910"/>
          <a:stretch/>
        </p:blipFill>
        <p:spPr>
          <a:xfrm>
            <a:off x="3344760" y="457200"/>
            <a:ext cx="51134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Vocabulary Words</a:t>
            </a:r>
            <a:br>
              <a:rPr sz="4000"/>
            </a:br>
            <a:r>
              <a:rPr b="1" i="1" lang="en-US" sz="2000" spc="-1" strike="noStrike">
                <a:solidFill>
                  <a:srgbClr val="00b7a5"/>
                </a:solidFill>
                <a:latin typeface="Verdana"/>
              </a:rPr>
              <a:t>wrapped, unpacked, stuffing, blankets, quilt, pretended, trunks</a:t>
            </a:r>
            <a:endParaRPr b="0" lang="en-US" sz="2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is something you can sew from squares of fabri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b50069"/>
                </a:solidFill>
                <a:latin typeface="Verdana"/>
              </a:rPr>
              <a:t>qui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fill a quilt with this to make it sof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b50069"/>
                </a:solidFill>
                <a:latin typeface="Verdana"/>
              </a:rPr>
              <a:t>stuff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means the same as made belie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b50069"/>
                </a:solidFill>
                <a:latin typeface="Verdana"/>
              </a:rPr>
              <a:t>prete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goes with chests and cra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b50069"/>
                </a:solidFill>
                <a:latin typeface="Verdana"/>
              </a:rPr>
              <a:t>trun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Vocabulary Words</a:t>
            </a:r>
            <a:br>
              <a:rPr sz="4000"/>
            </a:br>
            <a:r>
              <a:rPr b="1" i="1" lang="en-US" sz="2000" spc="-1" strike="noStrike">
                <a:solidFill>
                  <a:srgbClr val="00b7a5"/>
                </a:solidFill>
                <a:latin typeface="Verdana"/>
              </a:rPr>
              <a:t>wrapped, unpacked, stuffing, blankets, quilt, pretended, trunks</a:t>
            </a:r>
            <a:endParaRPr b="0" lang="en-US" sz="2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is what you did when you returned home from a tri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b50069"/>
                </a:solidFill>
                <a:latin typeface="Verdana"/>
              </a:rPr>
              <a:t>unpa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is something that has been done to a gif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b50069"/>
                </a:solidFill>
                <a:latin typeface="Verdana"/>
              </a:rPr>
              <a:t>wrapp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se help keep you warm at nig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b50069"/>
                </a:solidFill>
                <a:latin typeface="Verdana"/>
              </a:rPr>
              <a:t>blank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836" name=""/>
          <p:cNvGraphicFramePr/>
          <p:nvPr/>
        </p:nvGraphicFramePr>
        <p:xfrm>
          <a:off x="685800" y="1523880"/>
          <a:ext cx="2895480" cy="452448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Word Famil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7" name=""/>
          <p:cNvGraphicFramePr/>
          <p:nvPr/>
        </p:nvGraphicFramePr>
        <p:xfrm>
          <a:off x="3809880" y="1523880"/>
          <a:ext cx="4689720" cy="4614840"/>
        </p:xfrm>
        <a:graphic>
          <a:graphicData uri="http://schemas.openxmlformats.org/drawingml/2006/table">
            <a:tbl>
              <a:tblPr/>
              <a:tblGrid>
                <a:gridCol w="468972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           bun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             bu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e           gigg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ble           spar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urple         </a:t>
                      </a: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ti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ble            </a:t>
                      </a: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mum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ugle          </a:t>
                      </a: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scram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w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2590920" y="1447920"/>
          <a:ext cx="4038480" cy="45291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4553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auti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nt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ie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o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me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mewh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8534520" cy="662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can jim play a buggl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97cd"/>
                </a:solidFill>
                <a:latin typeface="Verdana"/>
              </a:rPr>
              <a:t>Can Jim play a bugle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the show made Me giggl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97cd"/>
                </a:solidFill>
                <a:latin typeface="Verdana"/>
              </a:rPr>
              <a:t>The show made me giggl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Reference Sourc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you don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 know the meaning, spelling, or pronunciation of a word, look it up in a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dictionar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you are looking for information about a topic, I sometimes use an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encyclopedi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you want to use more interesting words in your writing, look in a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thesauru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for different words that have similar mean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Reference Sourc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you want to see maps, use an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atla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also use the computer as a reference source.  You can use several reference sources on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CD-RO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such as encyclopedia, atlas, and thesaur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use the computer to search the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Interne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for information about a topi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7a5"/>
                </a:solidFill>
                <a:latin typeface="Verdana"/>
              </a:rPr>
              <a:t>Wrap Up Your Week!</a:t>
            </a:r>
            <a:endParaRPr b="0" lang="en-US" sz="48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t</a:t>
            </a:r>
            <a:r>
              <a:rPr b="1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 Talk Ab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ur Changing Worl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Friday</a:t>
            </a:r>
            <a:r>
              <a:rPr b="0" lang="en-US" sz="3600" spc="-1" strike="noStrike">
                <a:solidFill>
                  <a:srgbClr val="00b7a5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848" name=""/>
          <p:cNvGraphicFramePr/>
          <p:nvPr/>
        </p:nvGraphicFramePr>
        <p:xfrm>
          <a:off x="144792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te about a class that makes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 special quilt.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take our story tests.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2209680" y="2327040"/>
            <a:ext cx="655344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Story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Classroom webpag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Student pag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Taking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Other Reading Quizz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Quiz # 9046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b7a5"/>
                </a:solidFill>
                <a:latin typeface="Verdana"/>
              </a:rPr>
              <a:t>loc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studied two-syllable words like this already.  What do you know about reading two-syllables wo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day we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l learn about two-syllable words that end with a </a:t>
            </a:r>
            <a:r>
              <a:rPr b="1" i="1" lang="en-US" sz="3200" spc="-1" strike="noStrike">
                <a:solidFill>
                  <a:srgbClr val="00b7a5"/>
                </a:solidFill>
                <a:latin typeface="Verdana"/>
              </a:rPr>
              <a:t>consona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1" i="1" lang="en-US" sz="3200" spc="-1" strike="noStrike">
                <a:solidFill>
                  <a:srgbClr val="00b7a5"/>
                </a:solidFill>
                <a:latin typeface="Verdana"/>
              </a:rPr>
              <a:t>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a word ends with a </a:t>
            </a:r>
            <a:r>
              <a:rPr b="1" i="1" lang="en-US" sz="3200" spc="-1" strike="noStrike">
                <a:solidFill>
                  <a:srgbClr val="00b7a5"/>
                </a:solidFill>
                <a:latin typeface="Verdana"/>
              </a:rPr>
              <a:t>consona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1" i="1" lang="en-US" sz="3200" spc="-1" strike="noStrike">
                <a:solidFill>
                  <a:srgbClr val="00b7a5"/>
                </a:solidFill>
                <a:latin typeface="Verdana"/>
              </a:rPr>
              <a:t>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those three letters make the last syllable in the wo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n / d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b7a5"/>
                </a:solidFill>
                <a:latin typeface="Verdana"/>
              </a:rPr>
              <a:t>wig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blend two-syllable words with </a:t>
            </a:r>
            <a:r>
              <a:rPr b="1" i="1" lang="en-US" sz="3200" spc="-1" strike="noStrike">
                <a:solidFill>
                  <a:srgbClr val="00b7a5"/>
                </a:solidFill>
                <a:latin typeface="Verdana"/>
              </a:rPr>
              <a:t>consona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+ </a:t>
            </a:r>
            <a:r>
              <a:rPr b="1" i="1" lang="en-US" sz="3200" spc="-1" strike="noStrike">
                <a:solidFill>
                  <a:srgbClr val="00b7a5"/>
                </a:solidFill>
                <a:latin typeface="Verdana"/>
              </a:rPr>
              <a:t>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by dividing them into smaller part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usually divide the word so the last </a:t>
            </a:r>
            <a:r>
              <a:rPr b="1" i="1" lang="en-US" sz="3200" spc="-1" strike="noStrike">
                <a:solidFill>
                  <a:srgbClr val="00b7a5"/>
                </a:solidFill>
                <a:latin typeface="Verdana"/>
              </a:rPr>
              <a:t>consona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+ </a:t>
            </a:r>
            <a:r>
              <a:rPr b="1" i="1" lang="en-US" sz="3200" spc="-1" strike="noStrike">
                <a:solidFill>
                  <a:srgbClr val="00b7a5"/>
                </a:solidFill>
                <a:latin typeface="Verdana"/>
              </a:rPr>
              <a:t>le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ke up the last syllable of the wo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ad one syllable at a time and then blend them toge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g / g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523520" y="20574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m / 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ig / 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 / 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ud / d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rin / k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 / 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76920" y="2057400"/>
            <a:ext cx="304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ra / d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m / 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b / 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ar / k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ur / 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a / 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51fe6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Small Group</a:t>
            </a: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5400" spc="-1" strike="noStrike" u="sng">
                <a:solidFill>
                  <a:srgbClr val="f297cd"/>
                </a:solidFill>
                <a:uFillTx/>
                <a:latin typeface="Verdana"/>
                <a:hlinkClick r:id="rId1"/>
              </a:rPr>
              <a:t>Tim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Making Word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086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  <a:ea typeface="Arial"/>
              </a:rPr>
              <a:t>a, e, u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  <a:ea typeface="Arial"/>
              </a:rPr>
              <a:t>b, g, j, l, m, n, p, s, t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523520" y="20574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gg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m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ilo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dd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if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76920" y="2057400"/>
            <a:ext cx="304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n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d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g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bl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uzz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iew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a word ends in a </a:t>
            </a:r>
            <a:r>
              <a:rPr b="1" lang="en-US" sz="3200" spc="-1" strike="noStrike">
                <a:solidFill>
                  <a:srgbClr val="00b7a5"/>
                </a:solidFill>
                <a:latin typeface="Verdana"/>
              </a:rPr>
              <a:t>consona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plus </a:t>
            </a:r>
            <a:r>
              <a:rPr b="1" i="1" lang="en-US" sz="3200" spc="-1" strike="noStrike">
                <a:solidFill>
                  <a:srgbClr val="00b7a5"/>
                </a:solidFill>
                <a:latin typeface="Verdana"/>
              </a:rPr>
              <a:t>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those three letters usually make up the last syllable of the wo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ad one syllable at a time and then blend them toge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685800" y="1523880"/>
          <a:ext cx="2895480" cy="452448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Word Famil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8" name=""/>
          <p:cNvGraphicFramePr/>
          <p:nvPr/>
        </p:nvGraphicFramePr>
        <p:xfrm>
          <a:off x="3809880" y="1523880"/>
          <a:ext cx="4689720" cy="4614840"/>
        </p:xfrm>
        <a:graphic>
          <a:graphicData uri="http://schemas.openxmlformats.org/drawingml/2006/table">
            <a:tbl>
              <a:tblPr/>
              <a:tblGrid>
                <a:gridCol w="468972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           bun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             bu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e           gigg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ble           spar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urple         </a:t>
                      </a: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ti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ble            </a:t>
                      </a: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mum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ugle          </a:t>
                      </a: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scram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w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Word Family Word – start </a:t>
            </a:r>
            <a:r>
              <a:rPr b="0" lang="en-US" sz="1400" spc="-1" strike="noStrike" u="sng">
                <a:solidFill>
                  <a:srgbClr val="f297cd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1371600" y="1981080"/>
          <a:ext cx="6172200" cy="35355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51fe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51fe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51fe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51fe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51fe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m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Word Family Word – par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42" name="TextBox 8"/>
          <p:cNvSpPr/>
          <p:nvPr/>
        </p:nvSpPr>
        <p:spPr>
          <a:xfrm>
            <a:off x="2161800" y="3657600"/>
            <a:ext cx="99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ch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TextBox 9"/>
          <p:cNvSpPr/>
          <p:nvPr/>
        </p:nvSpPr>
        <p:spPr>
          <a:xfrm>
            <a:off x="4440960" y="3276720"/>
            <a:ext cx="8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h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TextBox 10"/>
          <p:cNvSpPr/>
          <p:nvPr/>
        </p:nvSpPr>
        <p:spPr>
          <a:xfrm>
            <a:off x="6730560" y="320040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m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TextBox 11"/>
          <p:cNvSpPr/>
          <p:nvPr/>
        </p:nvSpPr>
        <p:spPr>
          <a:xfrm>
            <a:off x="2005200" y="5638680"/>
            <a:ext cx="81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c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TextBox 12"/>
          <p:cNvSpPr/>
          <p:nvPr/>
        </p:nvSpPr>
        <p:spPr>
          <a:xfrm>
            <a:off x="4515480" y="548640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d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Box 13"/>
          <p:cNvSpPr/>
          <p:nvPr/>
        </p:nvSpPr>
        <p:spPr>
          <a:xfrm>
            <a:off x="6805080" y="51814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t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8" name="Picture 2" descr="http://tbn1.google.com/images?q=tbn:NktdV0iZj9qtXM:http://www.global-b2b-network.com/direct/dbimage/50294677/Service_Cart_W__Two_Drawer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449568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" descr="http://tbn0.google.com/images?q=tbn:50RwSanPWdBmEM:http://www.wait-till-i.com/stuff/chart-table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5120" y="1981080"/>
            <a:ext cx="1295280" cy="16765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http://tbn1.google.com/images?q=tbn:lGFZ2ePVIr0N0M:http://www.dartsuppliesdirect.com/dart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14800" y="4114800"/>
            <a:ext cx="1562040" cy="1398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6" descr="http://tbn2.google.com/images?q=tbn:GOGKNjnk6x5BLM:http://img.photobucket.com/albums/v604/kitchenmonkey/Tart-Single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00800" y="4114800"/>
            <a:ext cx="1362240" cy="10288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8" descr="http://tbn3.google.com/images?q=tbn:6RzLdwkVCWcjGM:http://www.animalspirits.com/deer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267080" y="2057400"/>
            <a:ext cx="1086120" cy="12096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0" descr="http://tbn2.google.com/images?q=tbn:nm_6nWpjuyy0vM:http://www.exclusivestm.com/wp-content/uploads/2007/07/kwik-e-mart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248520" y="1981080"/>
            <a:ext cx="159048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Word Family Word – born</a:t>
            </a:r>
            <a:r>
              <a:rPr b="1" lang="en-US" sz="4000" spc="-1" strike="noStrike">
                <a:solidFill>
                  <a:srgbClr val="00b7a5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1400" spc="-1" strike="noStrike" u="sng">
                <a:solidFill>
                  <a:srgbClr val="f297cd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371600" y="1981080"/>
          <a:ext cx="6172200" cy="2514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t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c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w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Quilt Story </a:t>
            </a:r>
            <a:br>
              <a:rPr sz="3600"/>
            </a:b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Word Family Word – born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457" name="Picture 2" descr="http://tbn2.google.com/images?q=tbn:i3VCzG8f421EyM:http://soilcrop.tamu.edu/photogallery/cornsorghum%2B/images/corn%2520ear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2209680"/>
            <a:ext cx="1809720" cy="14479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4" descr="http://tbn3.google.com/images?q=tbn:dFMbDTHzipzVMM:http://chnm.gmu.edu/resources/essays/images/EvolutionIntelligentDesignClimateChange/corn_diversity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8120" y="2286000"/>
            <a:ext cx="1935000" cy="12952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6" descr="http://tbn2.google.com/images?q=tbn:SPB6CDXn_Xr7ZM:http://www.music.vt.edu/musicdictionary/texth/images/horn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10080" y="2286000"/>
            <a:ext cx="1148040" cy="13716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8" descr="http://tbn0.google.com/images?q=tbn:yxvgoqtVcGzxgM:http://www.photoshopmonster.com/tutorial/Photoshop-torn-punch-hole-paper/Photoshop-torn-punch-hole-paper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10280" y="2286000"/>
            <a:ext cx="1295640" cy="13622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0" descr="http://tbn1.google.com/images?q=tbn:n4lhcH4A1wJW-M:http://www.mooseyscountrygarden.com/rose-picture-gallery/rose-thorn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057400" y="4495680"/>
            <a:ext cx="1676520" cy="12636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2" descr="http://tbn0.google.com/images?q=tbn:UCUsla4Wrip9jM:http://msnbcmedia3.msn.com/j/msnbc/Components/Photos/060201/060201_bernanke_sworn_hmed_7a.hmedium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181480" y="4495680"/>
            <a:ext cx="1629000" cy="1276560"/>
          </a:xfrm>
          <a:prstGeom prst="rect">
            <a:avLst/>
          </a:prstGeom>
          <a:ln w="0">
            <a:noFill/>
          </a:ln>
        </p:spPr>
      </p:pic>
      <p:sp>
        <p:nvSpPr>
          <p:cNvPr id="463" name="TextBox 8"/>
          <p:cNvSpPr/>
          <p:nvPr/>
        </p:nvSpPr>
        <p:spPr>
          <a:xfrm>
            <a:off x="1939320" y="3657600"/>
            <a:ext cx="20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corn (maiz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TextBox 9"/>
          <p:cNvSpPr/>
          <p:nvPr/>
        </p:nvSpPr>
        <p:spPr>
          <a:xfrm>
            <a:off x="5575680" y="3657600"/>
            <a:ext cx="8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ho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Box 10"/>
          <p:cNvSpPr/>
          <p:nvPr/>
        </p:nvSpPr>
        <p:spPr>
          <a:xfrm>
            <a:off x="7254000" y="3657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to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Box 11"/>
          <p:cNvSpPr/>
          <p:nvPr/>
        </p:nvSpPr>
        <p:spPr>
          <a:xfrm>
            <a:off x="2381400" y="579132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tho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TextBox 12"/>
          <p:cNvSpPr/>
          <p:nvPr/>
        </p:nvSpPr>
        <p:spPr>
          <a:xfrm>
            <a:off x="5432400" y="5791320"/>
            <a:ext cx="114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swo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Compare &amp; Contras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member 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Walk in the Desert.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are our town and a desert alike and how are they differ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Compare &amp; Contras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selection contains many different ide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writer can organize these ideas in various way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od readers pay attention to the way ideas are organiz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Vocabulary &amp; Amazing Wor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 </a:t>
            </a: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1"/>
              </a:rPr>
              <a:t>Arcade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2"/>
              </a:rPr>
              <a:t>Jig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3"/>
              </a:rPr>
              <a:t>Match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4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5"/>
              </a:rPr>
              <a:t>Word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6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7"/>
              </a:rPr>
              <a:t>Spelling City-Vo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8"/>
              </a:rPr>
              <a:t>Spelling City-Amaz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814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Spelling Wor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9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10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11"/>
              </a:rPr>
              <a:t>Quia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12"/>
              </a:rPr>
              <a:t>Spelling 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High Frequency W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13"/>
              </a:rPr>
              <a:t>Fill-in-the Blank</a:t>
            </a: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14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15"/>
              </a:rPr>
              <a:t>Spelling 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Compare &amp; Contras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 way to organize ideas is to tell how things are alike and differ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writer can use clue words, such as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lik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also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to tell how things are alik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writer can use clue words, such as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bu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unlik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to tell how things are differ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Story Structur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ory structure is how the writer fits all the parts of the story toge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writer can organize story ideas by contrasting how things are different or comparing how things are alik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5" descr="Student Pages"/>
          <p:cNvPicPr/>
          <p:nvPr/>
        </p:nvPicPr>
        <p:blipFill>
          <a:blip r:embed="rId1"/>
          <a:stretch/>
        </p:blipFill>
        <p:spPr>
          <a:xfrm>
            <a:off x="533520" y="577800"/>
            <a:ext cx="807696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Daily Fix-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jill rod a purple bik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97cd"/>
                </a:solidFill>
                <a:latin typeface="Verdana"/>
              </a:rPr>
              <a:t>Jill rode a purple bik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rick put tap on his anke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97cd"/>
                </a:solidFill>
                <a:latin typeface="Verdana"/>
              </a:rPr>
              <a:t>Rick put tape on his ankl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Grammar: Adjectiv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</a:t>
            </a:r>
            <a:r>
              <a:rPr b="1" lang="en-US" sz="3200" spc="-1" strike="noStrike">
                <a:solidFill>
                  <a:srgbClr val="00b7a5"/>
                </a:solidFill>
                <a:latin typeface="Verdana"/>
              </a:rPr>
              <a:t>adjectiv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describes a person, place, animal, or 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adjective can tell how something </a:t>
            </a:r>
            <a:r>
              <a:rPr b="1" lang="en-US" sz="3200" spc="-1" strike="noStrike">
                <a:solidFill>
                  <a:srgbClr val="00b7a5"/>
                </a:solidFill>
                <a:latin typeface="Verdana"/>
              </a:rPr>
              <a:t>looks, sounds, tastes, feels,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r</a:t>
            </a:r>
            <a:r>
              <a:rPr b="1" lang="en-US" sz="3200" spc="-1" strike="noStrike">
                <a:solidFill>
                  <a:srgbClr val="00b7a5"/>
                </a:solidFill>
                <a:latin typeface="Verdana"/>
              </a:rPr>
              <a:t> smell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297cd"/>
                </a:solidFill>
                <a:latin typeface="Verdana"/>
              </a:rPr>
              <a:t>My family loves hot cornbre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297cd"/>
                </a:solidFill>
                <a:latin typeface="Verdana"/>
              </a:rPr>
              <a:t>H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describes the way the cornbread tastes and fee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Grammar: Adjectiv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mother always used yellow cornme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Grammar: Adjectiv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mother always use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yello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ornme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put in flour, eggs, and cold mil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Grammar: Adjectiv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mother always use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yello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ornme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put in flour, eggs, an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ol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il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added pepper and green chil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Grammar: Adjectiv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mother always use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yello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ornme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put in flour, eggs, an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ol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il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added pepper an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gre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hil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stirred to make smooth bat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Grammar: Adjectiv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mother always use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yello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ornme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put in flour, eggs, an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ol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il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added pepper an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gre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hil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stirred to make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moo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bat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w I make delicious cornbread to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2819520" y="1600200"/>
          <a:ext cx="3657600" cy="45529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58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Amazing Wor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ser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res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alu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u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ntr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mel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ti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Grammar: Adjectiv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mother always use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yello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ornme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put in flour, eggs, an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ol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il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added pepper an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gre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hil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stirred to make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moo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bat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w I make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deliciou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ornbread to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Wrap Up Our Day!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rds that end with consonant + 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are and contr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morrow we will read about something that makes a girl feel like she is home—no matter where she 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Monday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1523880" y="2362320"/>
          <a:ext cx="6096240" cy="32004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6" name="Rectangle 29"/>
          <p:cNvSpPr/>
          <p:nvPr/>
        </p:nvSpPr>
        <p:spPr>
          <a:xfrm>
            <a:off x="1752480" y="327672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Write about wh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friendships are valuabl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Tuesday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1295280" y="2286000"/>
          <a:ext cx="6705720" cy="3700440"/>
        </p:xfrm>
        <a:graphic>
          <a:graphicData uri="http://schemas.openxmlformats.org/drawingml/2006/table">
            <a:tbl>
              <a:tblPr/>
              <a:tblGrid>
                <a:gridCol w="6705720"/>
              </a:tblGrid>
              <a:tr h="370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about a warm, old quilt.  This quilt changes over time.  Have you ever owned something for a long time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Tuesday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1295280" y="2286000"/>
          <a:ext cx="6705720" cy="3700440"/>
        </p:xfrm>
        <a:graphic>
          <a:graphicData uri="http://schemas.openxmlformats.org/drawingml/2006/table">
            <a:tbl>
              <a:tblPr/>
              <a:tblGrid>
                <a:gridCol w="6705720"/>
              </a:tblGrid>
              <a:tr h="370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about a </a:t>
                      </a: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warm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, </a:t>
                      </a: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ol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quilt.  This quilt changes over time.  Have you ever owned something for a long time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llables consonant + 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fix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rd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and Our Se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720" y="1219320"/>
            <a:ext cx="73404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  <a:ea typeface="Arial"/>
              </a:rPr>
              <a:t>Quilt Story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97cd"/>
                </a:solidFill>
                <a:latin typeface="Verdana"/>
                <a:ea typeface="Arial"/>
              </a:rPr>
              <a:t>tough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toug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If something is difficult to do, it is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tough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If something can take a lot of wear and tear without breaking or being damaged, it is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tough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It might be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tough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to decide what kind of pet you wa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Jeans are made from a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tough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mater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Some meat is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tough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to che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97cd"/>
                </a:solidFill>
                <a:latin typeface="Verdana"/>
                <a:ea typeface="Arial"/>
              </a:rPr>
              <a:t>concentration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con – cen – tra - 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When you are thinking about one thing very carefully, that is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concentratio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If you are trying to solve a math problem and are not paying attention to anything else, you are in deep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concentratio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When all you will do for a morning is clean your room, your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concentratio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is on clean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97cd"/>
                </a:solidFill>
                <a:latin typeface="Verdana"/>
                <a:ea typeface="Arial"/>
              </a:rPr>
              <a:t>frown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frow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When you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frow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, you wrinkle your forehead and draw your eyebrows together, usually when you are worried, angry, or think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You may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frow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when you try to think of an answer to a hard ques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A person who is worried about a lost pet may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frow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A smile is the opposite of a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frow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2590920" y="685800"/>
          <a:ext cx="4038480" cy="56386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567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lanke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tend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ff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unk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pack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app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itch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tch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tchwor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7a5"/>
                </a:solidFill>
                <a:latin typeface="Verdana"/>
                <a:ea typeface="Verdana"/>
              </a:rPr>
              <a:t>Read-Aloud</a:t>
            </a:r>
            <a:endParaRPr b="0" lang="en-US" sz="72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Verdana"/>
              </a:rPr>
              <a:t>Kimi</a:t>
            </a:r>
            <a:r>
              <a:rPr b="0" lang="ja-JP" sz="4400" spc="-1" strike="noStrike">
                <a:solidFill>
                  <a:srgbClr val="ffffff"/>
                </a:solidFill>
                <a:latin typeface="Verdana"/>
                <a:ea typeface="Verdana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Verdana"/>
              </a:rPr>
              <a:t>s Ocea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read this word because you know how to read two-syllable words that end with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consona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+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you come to a two-syllable word that ends with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consona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+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look for the two syllab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ad them and then read the wo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200400" y="190476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t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wink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igg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zz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ett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2971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Click to listen to </a:t>
            </a:r>
            <a:r>
              <a:rPr b="0" lang="ja-JP" sz="4400" spc="-1" strike="noStrike">
                <a:solidFill>
                  <a:srgbClr val="00b7a5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My Teddy Bear.</a:t>
            </a:r>
            <a:r>
              <a:rPr b="0" lang="ja-JP" sz="4400" spc="-1" strike="noStrike">
                <a:solidFill>
                  <a:srgbClr val="00b7a5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518" name="Picture 1" descr="Phonics Songs and Rhymes Chart 16"/>
          <p:cNvPicPr/>
          <p:nvPr/>
        </p:nvPicPr>
        <p:blipFill>
          <a:blip r:embed="rId1"/>
          <a:srcRect l="-1857" t="0" r="0" b="10974"/>
          <a:stretch/>
        </p:blipFill>
        <p:spPr>
          <a:xfrm>
            <a:off x="4114800" y="457200"/>
            <a:ext cx="441972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400"/>
            </a:br>
            <a:r>
              <a:rPr b="1" lang="en-US" sz="2800" spc="-1" strike="noStrike">
                <a:solidFill>
                  <a:srgbClr val="b50069"/>
                </a:solidFill>
                <a:latin typeface="Verdana"/>
              </a:rPr>
              <a:t>Find words with consonant + le in </a:t>
            </a:r>
            <a:r>
              <a:rPr b="1" lang="ja-JP" sz="2800" spc="-1" strike="noStrike">
                <a:solidFill>
                  <a:srgbClr val="b50069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b50069"/>
                </a:solidFill>
                <a:latin typeface="Verdana"/>
              </a:rPr>
              <a:t>My Teddy Bear.</a:t>
            </a:r>
            <a:r>
              <a:rPr b="1" lang="ja-JP" sz="2800" spc="-1" strike="noStrike">
                <a:solidFill>
                  <a:srgbClr val="b50069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057400" y="266652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ug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nug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ou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ick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tt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ick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a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a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p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2590920" y="1447920"/>
          <a:ext cx="4038480" cy="41907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auti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nt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ie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o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me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mewh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a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p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a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p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a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p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a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p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a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p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a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p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a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p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w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a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p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685800" y="1523880"/>
          <a:ext cx="2895480" cy="452448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Word Famil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3809880" y="1523880"/>
          <a:ext cx="4689720" cy="4614840"/>
        </p:xfrm>
        <a:graphic>
          <a:graphicData uri="http://schemas.openxmlformats.org/drawingml/2006/table">
            <a:tbl>
              <a:tblPr/>
              <a:tblGrid>
                <a:gridCol w="468972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           bun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             bu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e           gigg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ble           spar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urple         </a:t>
                      </a: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ti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ble            </a:t>
                      </a: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mum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ugle          </a:t>
                      </a: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scram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w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Word Family Word – year</a:t>
            </a:r>
            <a:r>
              <a:rPr b="1" lang="en-US" sz="3200" spc="-1" strike="noStrike">
                <a:solidFill>
                  <a:srgbClr val="00b7a5"/>
                </a:solidFill>
                <a:latin typeface="Times New Roman"/>
              </a:rPr>
              <a:t> </a:t>
            </a:r>
            <a:r>
              <a:rPr b="0" lang="en-US" sz="1400" spc="-1" strike="noStrike" u="sng">
                <a:solidFill>
                  <a:srgbClr val="f297cd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1371600" y="1295280"/>
          <a:ext cx="6172200" cy="5072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42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cl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m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p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609480" y="2057400"/>
          <a:ext cx="2895840" cy="3505320"/>
        </p:xfrm>
        <a:graphic>
          <a:graphicData uri="http://schemas.openxmlformats.org/drawingml/2006/table">
            <a:tbl>
              <a:tblPr/>
              <a:tblGrid>
                <a:gridCol w="2895840"/>
              </a:tblGrid>
              <a:tr h="352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Word Famil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3809880" y="1523880"/>
          <a:ext cx="4689720" cy="4614840"/>
        </p:xfrm>
        <a:graphic>
          <a:graphicData uri="http://schemas.openxmlformats.org/drawingml/2006/table">
            <a:tbl>
              <a:tblPr/>
              <a:tblGrid>
                <a:gridCol w="468972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           bun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             bu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e           gigg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ble           spar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urple         </a:t>
                      </a: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ti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ble            </a:t>
                      </a: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mum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ugle          </a:t>
                      </a: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scram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w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Quilt Story </a:t>
            </a:r>
            <a:br>
              <a:rPr sz="3600"/>
            </a:b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Word Family Word – year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553" name="Picture 2" descr="http://tbn1.google.com/images?q=tbn:m6IhTnRSlDxbgM:http://www.freeuni.edu.ge/shortprograms/blog/wp-content/uploads/2008/12/fear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057400"/>
            <a:ext cx="1352520" cy="10382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" descr="http://tbn0.google.com/images?q=tbn:LGGgLaEVj6ej_M:http://img.directindustry.com/images_di/photo-g/cylindrical-gear-378049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66880" y="2057400"/>
            <a:ext cx="1419480" cy="11336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6" descr="http://tbn2.google.com/images?q=tbn:pIzGVNZvsr0HCM:http://www.noiseaddicts.com/wp-content/uploads/2009/02/hearing-loss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95680" y="2057400"/>
            <a:ext cx="981360" cy="11714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8" descr="http://tbn3.google.com/images?q=tbn:uxTDjllZGOA4IM:http://gallery.hd.org/_exhibits/natural-science/_more2003/_more09/elephant-rear-view-and-dung-on-road-bordered-by-bushes-in-Addo-Park-Eastern-Cape-South-Africa-WL.jpg">
            <a:hlinkClick r:id="rId7"/>
          </p:cNvPr>
          <p:cNvPicPr/>
          <p:nvPr/>
        </p:nvPicPr>
        <p:blipFill>
          <a:blip r:embed="rId8"/>
          <a:srcRect l="0" t="0" r="0" b="14664"/>
          <a:stretch/>
        </p:blipFill>
        <p:spPr>
          <a:xfrm>
            <a:off x="5791320" y="2057400"/>
            <a:ext cx="952560" cy="12193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0" descr="http://tbn2.google.com/images?q=tbn:CNTGmzcpCDfwUM:http://www.filtsai.com/cooking/blue_stuffed_tenderloin/sear_02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133720" y="4114800"/>
            <a:ext cx="1361880" cy="10191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2" descr="http://tbn0.google.com/images?q=tbn:ZgvEW7Qn9MvjvM:http://i92.photobucket.com/albums/l14/bigwiggly/Tear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162920" y="2057400"/>
            <a:ext cx="1085760" cy="11811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6" descr="http://tbn2.google.com/images?q=tbn:Ud0GQ0uX3jrDMM:http://www.expertalpacashearing.com/images/electric_shear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733920" y="4114800"/>
            <a:ext cx="1304640" cy="9810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8" descr="http://tbn1.google.com/images?q=tbn:oqc9HjI7OhWWlM:http://earth911.com/wp-content/uploads/2008/10/clear-glass-jar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477120" y="40384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20" descr="http://tbn0.google.com/images?q=tbn:wTXc6fqpKnDMBM:http://www.goravani.com/art/Copper_spear_reg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947000" y="3809880"/>
            <a:ext cx="520560" cy="19051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22" descr="http://tbn1.google.com/images?q=tbn:NpytkPVRWmg1NM:http://upload.wikimedia.org/wikipedia/commons/d/de/NCI_cream_cheese_bagel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257800" y="41148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24" descr="http://tbn0.google.com/images?q=tbn:rQ2Yf0t_gGH_bM:http://upload.wikimedia.org/wikipedia/commons/b/be/WorldCalendar.pn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685800" y="3962520"/>
            <a:ext cx="1181160" cy="1266840"/>
          </a:xfrm>
          <a:prstGeom prst="rect">
            <a:avLst/>
          </a:prstGeom>
          <a:ln w="0">
            <a:noFill/>
          </a:ln>
        </p:spPr>
      </p:pic>
      <p:sp>
        <p:nvSpPr>
          <p:cNvPr id="564" name="TextBox 14"/>
          <p:cNvSpPr/>
          <p:nvPr/>
        </p:nvSpPr>
        <p:spPr>
          <a:xfrm>
            <a:off x="1237680" y="312408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f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TextBox 15"/>
          <p:cNvSpPr/>
          <p:nvPr/>
        </p:nvSpPr>
        <p:spPr>
          <a:xfrm>
            <a:off x="2914920" y="32004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g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TextBox 16"/>
          <p:cNvSpPr/>
          <p:nvPr/>
        </p:nvSpPr>
        <p:spPr>
          <a:xfrm>
            <a:off x="4515840" y="320040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h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TextBox 17"/>
          <p:cNvSpPr/>
          <p:nvPr/>
        </p:nvSpPr>
        <p:spPr>
          <a:xfrm>
            <a:off x="5886360" y="3276720"/>
            <a:ext cx="7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r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TextBox 18"/>
          <p:cNvSpPr/>
          <p:nvPr/>
        </p:nvSpPr>
        <p:spPr>
          <a:xfrm>
            <a:off x="7337520" y="320040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t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TextBox 19"/>
          <p:cNvSpPr/>
          <p:nvPr/>
        </p:nvSpPr>
        <p:spPr>
          <a:xfrm>
            <a:off x="790920" y="5257800"/>
            <a:ext cx="8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TextBox 20"/>
          <p:cNvSpPr/>
          <p:nvPr/>
        </p:nvSpPr>
        <p:spPr>
          <a:xfrm>
            <a:off x="2461680" y="5181480"/>
            <a:ext cx="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s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xtBox 21"/>
          <p:cNvSpPr/>
          <p:nvPr/>
        </p:nvSpPr>
        <p:spPr>
          <a:xfrm>
            <a:off x="3837240" y="510552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sh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TextBox 22"/>
          <p:cNvSpPr/>
          <p:nvPr/>
        </p:nvSpPr>
        <p:spPr>
          <a:xfrm>
            <a:off x="5136840" y="5105520"/>
            <a:ext cx="11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sm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TextBox 23"/>
          <p:cNvSpPr/>
          <p:nvPr/>
        </p:nvSpPr>
        <p:spPr>
          <a:xfrm>
            <a:off x="6503400" y="510552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cl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TextBox 24"/>
          <p:cNvSpPr/>
          <p:nvPr/>
        </p:nvSpPr>
        <p:spPr>
          <a:xfrm>
            <a:off x="7646400" y="579132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sp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brother and I giggle when we tickle each oth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brother and I </a:t>
            </a:r>
            <a:r>
              <a:rPr b="0" lang="en-US" sz="3200" spc="-1" strike="noStrike">
                <a:solidFill>
                  <a:srgbClr val="ffbde3"/>
                </a:solidFill>
                <a:latin typeface="Verdana"/>
              </a:rPr>
              <a:t>gigg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hen we </a:t>
            </a:r>
            <a:r>
              <a:rPr b="0" lang="en-US" sz="3200" spc="-1" strike="noStrike">
                <a:solidFill>
                  <a:srgbClr val="ffbde3"/>
                </a:solidFill>
                <a:latin typeface="Verdana"/>
              </a:rPr>
              <a:t>tick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each 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stars sparkle and twinkle at nigh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stars </a:t>
            </a:r>
            <a:r>
              <a:rPr b="0" lang="en-US" sz="3200" spc="-1" strike="noStrike">
                <a:solidFill>
                  <a:srgbClr val="ffbde3"/>
                </a:solidFill>
                <a:latin typeface="Verdana"/>
              </a:rPr>
              <a:t>spark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lang="en-US" sz="3200" spc="-1" strike="noStrike">
                <a:solidFill>
                  <a:srgbClr val="ffbde3"/>
                </a:solidFill>
                <a:latin typeface="Verdana"/>
              </a:rPr>
              <a:t>twink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t nigh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cable is made of purple wi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lang="en-US" sz="3200" spc="-1" strike="noStrike">
                <a:solidFill>
                  <a:srgbClr val="ffbde3"/>
                </a:solidFill>
                <a:latin typeface="Verdana"/>
              </a:rPr>
              <a:t>cab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made of </a:t>
            </a:r>
            <a:r>
              <a:rPr b="0" lang="en-US" sz="3200" spc="-1" strike="noStrike">
                <a:solidFill>
                  <a:srgbClr val="ffbde3"/>
                </a:solidFill>
                <a:latin typeface="Verdana"/>
              </a:rPr>
              <a:t>purp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i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is the title of the song she played on her bug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is the </a:t>
            </a:r>
            <a:r>
              <a:rPr b="0" lang="en-US" sz="3200" spc="-1" strike="noStrike">
                <a:solidFill>
                  <a:srgbClr val="ffbde3"/>
                </a:solidFill>
                <a:latin typeface="Verdana"/>
              </a:rPr>
              <a:t>tit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f the song she played on her </a:t>
            </a:r>
            <a:r>
              <a:rPr b="0" lang="en-US" sz="3200" spc="-1" strike="noStrike">
                <a:solidFill>
                  <a:srgbClr val="ffbde3"/>
                </a:solidFill>
                <a:latin typeface="Verdana"/>
              </a:rPr>
              <a:t>bug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quil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a bed covering made by stitching together layers of fabr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f297cd"/>
                </a:solidFill>
                <a:uFillTx/>
                <a:latin typeface="Verdana"/>
                <a:hlinkClick r:id="rId2" action="ppaction://hlinksldjump"/>
              </a:rPr>
              <a:t>wrapp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covered by winding or fo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pretend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make-belie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f297cd"/>
                </a:solidFill>
                <a:uFillTx/>
                <a:latin typeface="Verdana"/>
                <a:hlinkClick r:id="rId3" action="ppaction://hlinksldjump"/>
              </a:rPr>
              <a:t>stuff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soft material used to fill an o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f297cd"/>
                </a:solidFill>
                <a:uFillTx/>
                <a:latin typeface="Verdana"/>
                <a:hlinkClick r:id="rId4" action="ppaction://hlinksldjump"/>
              </a:rPr>
              <a:t>trunk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sturdy boxes in which objects are pack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2000" spc="-1" strike="noStrike" u="sng">
                <a:solidFill>
                  <a:srgbClr val="f297cd"/>
                </a:solidFill>
                <a:uFillTx/>
                <a:latin typeface="Verdana"/>
                <a:hlinkClick r:id="rId5" action="ppaction://hlinksldjump"/>
              </a:rPr>
              <a:t>next words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r>
              <a:rPr b="0" lang="en-US" sz="44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quil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685800" y="1599840"/>
            <a:ext cx="7772400" cy="47242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7" descr="Star%2520and%2520Plume%2520quilt%2520croppe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1600200"/>
            <a:ext cx="1727280" cy="23623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9" descr="Nf11quil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1600200"/>
            <a:ext cx="2270160" cy="22860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1" descr="Twilight%2520Quilt%2520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386400" y="1676520"/>
            <a:ext cx="2081160" cy="22096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3" descr="quilt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" y="4524480"/>
            <a:ext cx="2438280" cy="18000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5" descr="TreeQuilt-cmyk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786120" y="4267080"/>
            <a:ext cx="1258920" cy="204804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7" descr="500px-Crazy_Quilt_(solitaire)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278400" y="4114800"/>
            <a:ext cx="217044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quilting fram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5" descr="quilt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1981080"/>
            <a:ext cx="2057400" cy="186228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8" descr="mnF%3DMattNanHQUILT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1981080"/>
            <a:ext cx="3047760" cy="192276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0" descr="BabySiz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5800" y="3965400"/>
            <a:ext cx="2819520" cy="212112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2" descr="qframefront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657600" y="4749840"/>
            <a:ext cx="1905120" cy="13366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4" descr="quilframe1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715000" y="4197240"/>
            <a:ext cx="2743200" cy="19083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6" descr="int-1-lg-2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324480" y="1981080"/>
            <a:ext cx="21528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wrapped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685800" y="1599840"/>
            <a:ext cx="7772400" cy="47242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8" descr="wrappe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81280" y="4419720"/>
            <a:ext cx="2438640" cy="18381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0" descr="WrappedChoc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00400" y="16002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2" descr="wrapped_basket_l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08720" y="1600200"/>
            <a:ext cx="2068560" cy="27432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4" descr="A6-Wrapped-Spiral-2004-H25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" y="4476600"/>
            <a:ext cx="2666880" cy="17910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6" descr="Navaho-Wrapped-in-Blanket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85800" y="1600200"/>
            <a:ext cx="2036880" cy="28195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8" descr="seat%2520backs%2520wrapped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172200" y="4549680"/>
            <a:ext cx="226692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stuffing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7" descr="oc-cotton-stuffing-bulk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1981080"/>
            <a:ext cx="2514600" cy="180828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9" descr="stuffi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52680" y="1981080"/>
            <a:ext cx="2438640" cy="17701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1" descr="c20b8_beaver-stuffing-kit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505320" y="38862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13" descr="beaver-stuffing-kit-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248520" y="3886200"/>
            <a:ext cx="2200320" cy="220032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5" descr="stuffing3a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019920" y="1981080"/>
            <a:ext cx="2400120" cy="180036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17" descr="TUBE_STUFFING_LARGE-22-32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" y="392436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trunk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7" descr="Circa%25201850s%2520Gold%2520Rush%2520Stagecoach%2520Trunk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1981080"/>
            <a:ext cx="2362320" cy="17812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9" descr="trunk-black_650_1160_genera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57600" y="1981080"/>
            <a:ext cx="2057400" cy="17528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11" descr="GD_Copper_Steamer_Trunk_mailbox-25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53080" y="1981080"/>
            <a:ext cx="1943280" cy="19432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13" descr="Gentlemens-Trunk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" y="3886200"/>
            <a:ext cx="2027160" cy="22287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15" descr="Steamer-Trunk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00400" y="3886200"/>
            <a:ext cx="2590920" cy="22003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17" descr="pinel-pinel-air-jordan-sneaker-trunk-1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095880" y="4002120"/>
            <a:ext cx="238140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unpacked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2"/>
          <a:stretch/>
        </p:blipFill>
        <p:spPr>
          <a:xfrm>
            <a:off x="685800" y="1676160"/>
            <a:ext cx="7772400" cy="464796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7" descr="google_unpack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365760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9" descr="unpac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9880" y="1676520"/>
            <a:ext cx="1298520" cy="18288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11" descr="16unpack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5800" y="1676520"/>
            <a:ext cx="2438280" cy="18334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3" descr="deltec_unpack_1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" y="3962520"/>
            <a:ext cx="1782720" cy="23716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5" descr="unpack3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638680" y="1676520"/>
            <a:ext cx="2819520" cy="186516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7" descr="unpack-bedroom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791320" y="4343400"/>
            <a:ext cx="265752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38512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Big Question:</a:t>
            </a:r>
            <a:r>
              <a:rPr b="0" lang="en-US" sz="40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b7a5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How can familiar things </a:t>
            </a:r>
            <a:br>
              <a:rPr sz="3600"/>
            </a:b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help us with changes?</a:t>
            </a: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297cd"/>
                </a:solidFill>
                <a:uFillTx/>
                <a:latin typeface="Verdana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297cd"/>
                </a:solidFill>
                <a:uFillTx/>
                <a:latin typeface="Verdana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297cd"/>
                </a:solidFill>
                <a:uFillTx/>
                <a:latin typeface="Verdana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297cd"/>
                </a:solidFill>
                <a:uFillTx/>
                <a:latin typeface="Verdana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blanket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685800" y="1599840"/>
            <a:ext cx="7772400" cy="472428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7" descr="stack-of-blanket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3672000"/>
            <a:ext cx="3048120" cy="26478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9" descr="oxford_blanket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15000" y="3505320"/>
            <a:ext cx="2590920" cy="281916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11" descr="baby-blanket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86200" y="42670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3" descr="Kashwere-Blanket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" y="1600200"/>
            <a:ext cx="2971800" cy="17654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15" descr="baby_blankets_blue_whit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809880" y="1600200"/>
            <a:ext cx="2210040" cy="18003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17" descr="Organic_Cotton_Wool_Blankets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095880" y="1600200"/>
            <a:ext cx="232416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stitched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685800" y="1676160"/>
            <a:ext cx="7772400" cy="464796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7" descr="DoublePlume-stitche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1676520"/>
            <a:ext cx="4038480" cy="30510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9" descr="AlbumBaseballStitched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666880" y="48769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3" descr="jsw19p3a_l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5800" y="4888080"/>
            <a:ext cx="1676520" cy="14364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5" descr="mock-cathedral-stitched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807080" y="2590920"/>
            <a:ext cx="36576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hatche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685800" y="1752120"/>
            <a:ext cx="7772400" cy="449604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7" descr="CollinsHatchetCarpenter_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1752480"/>
            <a:ext cx="2286000" cy="21686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9" descr="3HatchetHammer_ful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9920" y="1752480"/>
            <a:ext cx="2466720" cy="18446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1" descr="XtremeHatchet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895480" y="4114800"/>
            <a:ext cx="2743200" cy="21286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3" descr="Hatchet_firefighter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" y="4038480"/>
            <a:ext cx="1596960" cy="220032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5" descr="hatchet-copy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807240" y="3733920"/>
            <a:ext cx="1670040" cy="25048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oe03_pauls_hatchet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581280" y="1752480"/>
            <a:ext cx="1675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patchwork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2"/>
          <a:stretch/>
        </p:blipFill>
        <p:spPr>
          <a:xfrm>
            <a:off x="685800" y="1447920"/>
            <a:ext cx="7772400" cy="495288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hand%2520made%2520patchwork%2520quilts_58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1447920"/>
            <a:ext cx="2666880" cy="20574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9" descr="chenille-patchwor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05320" y="1447920"/>
            <a:ext cx="2133360" cy="206856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1" descr="Patchwork%2520Quilt_99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867280" y="1447920"/>
            <a:ext cx="2571840" cy="21016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3" descr="blue_and_green_patchwork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590920" y="4114800"/>
            <a:ext cx="1676160" cy="148284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15" descr="top%2520hooded%2520patchwork%2520t%2520dye%252074%2520500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703920" y="3733920"/>
            <a:ext cx="1716120" cy="2647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7" descr="blazer-patchwork-01a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" y="4038480"/>
            <a:ext cx="1752480" cy="13208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19" descr="quilted_patchwork_pillow_c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419720" y="4114800"/>
            <a:ext cx="198108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297cd"/>
                </a:solidFill>
                <a:uFillTx/>
                <a:latin typeface="Times New Roman"/>
                <a:hlinkClick r:id="rId1" action="ppaction://hlinksldjump"/>
              </a:rPr>
              <a:t> </a:t>
            </a:r>
            <a:r>
              <a:rPr b="0" lang="en-US" sz="2800" spc="-1" strike="noStrike" u="sng">
                <a:solidFill>
                  <a:srgbClr val="f297cd"/>
                </a:solidFill>
                <a:uFillTx/>
                <a:latin typeface="Verdana"/>
                <a:hlinkClick r:id="rId2" action="ppaction://hlinksldjump"/>
              </a:rPr>
              <a:t>blankets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– coverings for beds used to keep sleepers wa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297cd"/>
                </a:solidFill>
                <a:uFillTx/>
                <a:latin typeface="Verdana"/>
                <a:hlinkClick r:id="rId3" action="ppaction://hlinksldjump"/>
              </a:rPr>
              <a:t> unpacked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– removed from a suitcase or other contai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297cd"/>
                </a:solidFill>
                <a:uFillTx/>
                <a:latin typeface="Verdana"/>
                <a:hlinkClick r:id="rId4" action="ppaction://hlinksldjump"/>
              </a:rPr>
              <a:t>stitched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fastened together with stitc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297cd"/>
                </a:solidFill>
                <a:uFillTx/>
                <a:latin typeface="Verdana"/>
                <a:hlinkClick r:id="rId5" action="ppaction://hlinksldjump"/>
              </a:rPr>
              <a:t>hatche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small ax with a short hand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297cd"/>
                </a:solidFill>
                <a:uFillTx/>
                <a:latin typeface="Verdana"/>
                <a:hlinkClick r:id="rId6" action="ppaction://hlinksldjump"/>
              </a:rPr>
              <a:t>patchwork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– different pieces of cloth sewn togeth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pictures of </a:t>
            </a:r>
            <a:r>
              <a:rPr b="0" lang="en-US" sz="2800" spc="-1" strike="noStrike" u="sng">
                <a:solidFill>
                  <a:srgbClr val="f297cd"/>
                </a:solidFill>
                <a:uFillTx/>
                <a:latin typeface="Verdana"/>
                <a:hlinkClick r:id="rId7" action="ppaction://hlinksldjump"/>
              </a:rPr>
              <a:t>quilting fram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Vocabulary Words Review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il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retend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a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tuff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876560" y="198108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a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lanke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ami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unpack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Vocabulary Strategy: Word Structure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e are strategies to use when you come across words you don</a:t>
            </a:r>
            <a:r>
              <a:rPr b="0" lang="ja-JP" sz="28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 underst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can look them up in a dictionary or gloss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can look for context clues in the words and sentences around the unknown wo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times you can get the meaning from word parts such as the base word and prefi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5" descr="Student Pages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7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i </a:t>
            </a: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ate a puple grap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97cd"/>
                </a:solidFill>
                <a:latin typeface="Verdana"/>
              </a:rPr>
              <a:t>I ate a purple grap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did you blow a bubl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97cd"/>
                </a:solidFill>
                <a:latin typeface="Verdana"/>
              </a:rPr>
              <a:t>Did you blow a bubble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Grammar: Adjectiv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</a:t>
            </a:r>
            <a:r>
              <a:rPr b="0" lang="en-US" sz="3200" spc="-1" strike="noStrike">
                <a:solidFill>
                  <a:srgbClr val="ffbde3"/>
                </a:solidFill>
                <a:latin typeface="Verdana"/>
              </a:rPr>
              <a:t>adjectiv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describes a person, place, animal, or 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adjective can tell how something looks, sounds, tastes, feels, or smel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297cd"/>
                </a:solidFill>
                <a:latin typeface="Verdana"/>
              </a:rPr>
              <a:t>Mother made a large quil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297cd"/>
                </a:solidFill>
                <a:latin typeface="Verdana"/>
              </a:rPr>
              <a:t>Larg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ells how the quilt loo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0" lang="en-US" sz="40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Monday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1523880" y="2362320"/>
          <a:ext cx="6096240" cy="3700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70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ur world is changing all the time.  Changing is often hard.  How can familiar things help us with change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Wrap Up Our Day!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sson Vocabul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ory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morrow we will read about an object that brings joy to all kinds of living thin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Tuesday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1447920" y="236232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te about something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ecial you packed for a trip.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3784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Wednesday</a:t>
            </a:r>
            <a:r>
              <a:rPr b="0" lang="en-US" sz="3600" spc="-1" strike="noStrike">
                <a:solidFill>
                  <a:srgbClr val="00b7a5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1523880" y="1905120"/>
          <a:ext cx="6096240" cy="41878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19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more about McKenna and Kimi.  McKenna is able to help Kimi feel a little better.  How do you make your friends feel better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3784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Wednesday</a:t>
            </a:r>
            <a:r>
              <a:rPr b="0" lang="en-US" sz="3600" spc="-1" strike="noStrike">
                <a:solidFill>
                  <a:srgbClr val="00b7a5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1523880" y="1905120"/>
          <a:ext cx="6096240" cy="41878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19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more about McKenna and Kimi.  McKenna is </a:t>
                      </a:r>
                      <a:r>
                        <a:rPr b="1" i="1" lang="en-US" sz="32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abl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to help Kimi feel a </a:t>
                      </a:r>
                      <a:r>
                        <a:rPr b="1" i="1" lang="en-US" sz="32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littl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better.  How do you make your friends feel better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arative E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rds with consonant + 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ultiple-mean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and Our Se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90720" y="1219320"/>
            <a:ext cx="73404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  <a:ea typeface="Arial"/>
              </a:rPr>
              <a:t>Quilt Story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82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97cd"/>
                </a:solidFill>
                <a:latin typeface="Verdana"/>
                <a:ea typeface="Arial"/>
              </a:rPr>
              <a:t>homeland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home – land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Your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homelan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is the country in which you were  born or where you feel you belo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Your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homelan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may be the country you remember living in as a chil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eople who were born or raised in France call it their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homelan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97cd"/>
                </a:solidFill>
                <a:latin typeface="Verdana"/>
                <a:ea typeface="Arial"/>
              </a:rPr>
              <a:t>patien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pa - tient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A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patient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person can wait for something or put up with some trouble without complaining or getting ups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You have to be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patient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when waiting in l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It takes time to learn how to play a musical instrument, so you must be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patient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You must be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patient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when teaching younger brothers or sisters how to do new th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7a5"/>
                </a:solidFill>
                <a:latin typeface="Verdana"/>
                <a:ea typeface="Verdana"/>
              </a:rPr>
              <a:t>Read-Aloud</a:t>
            </a:r>
            <a:endParaRPr b="0" lang="en-US" sz="72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Verdana"/>
              </a:rPr>
              <a:t>Kimi</a:t>
            </a:r>
            <a:r>
              <a:rPr b="0" lang="ja-JP" sz="4400" spc="-1" strike="noStrike">
                <a:solidFill>
                  <a:srgbClr val="ffffff"/>
                </a:solidFill>
                <a:latin typeface="Verdana"/>
                <a:ea typeface="Verdana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Verdana"/>
              </a:rPr>
              <a:t>s Ocea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3600"/>
            </a:b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36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36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7aab9"/>
                </a:solidFill>
                <a:latin typeface="Verdana"/>
              </a:rPr>
              <a:t>bigger   -    bigg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can read these words because you know how to read base words with end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ending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1" i="1" lang="en-US" sz="2800" spc="-1" strike="noStrike">
                <a:solidFill>
                  <a:srgbClr val="d7aab9"/>
                </a:solidFill>
                <a:latin typeface="Verdana"/>
              </a:rPr>
              <a:t>e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s used to compare two things, and the ending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1" i="1" lang="en-US" sz="2800" spc="-1" strike="noStrike">
                <a:solidFill>
                  <a:srgbClr val="d7aab9"/>
                </a:solidFill>
                <a:latin typeface="Verdana"/>
              </a:rPr>
              <a:t>es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s used to compare three or more th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times the final consonant is doubled before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i="1" lang="en-US" sz="2800" spc="-1" strike="noStrike">
                <a:solidFill>
                  <a:srgbClr val="d7aab9"/>
                </a:solidFill>
                <a:latin typeface="Verdana"/>
              </a:rPr>
              <a:t>er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1" i="1" lang="en-US" sz="2800" spc="-1" strike="noStrike">
                <a:solidFill>
                  <a:srgbClr val="d7aab9"/>
                </a:solidFill>
                <a:latin typeface="Verdana"/>
              </a:rPr>
              <a:t>es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s ad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f the base word ends in y, change the </a:t>
            </a:r>
            <a:r>
              <a:rPr b="1" lang="en-US" sz="2800" spc="-1" strike="noStrike">
                <a:solidFill>
                  <a:srgbClr val="d7aab9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to an </a:t>
            </a:r>
            <a:r>
              <a:rPr b="1" lang="en-US" sz="2800" spc="-1" strike="noStrike">
                <a:solidFill>
                  <a:srgbClr val="d7aab9"/>
                </a:solidFill>
                <a:latin typeface="Verdana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fore adding </a:t>
            </a:r>
            <a:r>
              <a:rPr b="1" lang="en-US" sz="2800" spc="-1" strike="noStrike">
                <a:solidFill>
                  <a:srgbClr val="d7aab9"/>
                </a:solidFill>
                <a:latin typeface="Verdana"/>
              </a:rPr>
              <a:t>–er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</a:t>
            </a:r>
            <a:r>
              <a:rPr b="1" lang="en-US" sz="2800" spc="-1" strike="noStrike">
                <a:solidFill>
                  <a:srgbClr val="d7aab9"/>
                </a:solidFill>
                <a:latin typeface="Verdana"/>
              </a:rPr>
              <a:t> -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4-01-25T20:08:49Z</dcterms:modified>
  <cp:revision>43</cp:revision>
  <dc:subject/>
  <dc:title>Slide 1</dc:title>
</cp:coreProperties>
</file>